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5.jpeg" ContentType="image/jpeg"/>
  <Override PartName="/ppt/media/image9.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wmf" ContentType="image/x-wmf"/>
  <Override PartName="/ppt/media/image4.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C7406-6708-417B-BB1C-22B3FDBBF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0"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64F0E-42BE-4F5C-AC6A-04BD99159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8"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AE4A93-7992-4A69-A4ED-0083E8E8C9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1B26AB-B432-4F7F-A085-390912B7BD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17C590-7F55-435C-AF52-9721BE68F0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1247FE-6E4F-4E3B-9F2D-F34142F08E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783FED-E0D4-42B6-8EF8-A4A9F7CC3F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C1BD38-0D66-45E8-A9D9-BA0C5DD4F3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5"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C58C01-0C45-45AE-A11F-7608C85877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B34222-A7D3-4E97-8E24-4D3A07CD8C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83"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F8DFE3-4F53-4A29-9E11-42FAD124A6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0205050-2ACA-44DC-96F9-3629E000CA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F3696-009D-4489-B9E7-3CD94CAAF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6"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72028F-45E3-4E25-8F4B-EDE14CD977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8"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840F15-68BF-461E-818E-761AA41064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53DB3B-C4A0-41CA-AA45-ECF0DE7894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F4E70A-361C-4541-9AF6-946DDC22A9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35517B-7E48-40EE-92D2-5F842E14CA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1F9D85-9BBE-4487-962C-3F46D72B2B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DCC31C-C867-406D-8A13-5BBD131EF0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BEC594-007F-4A5F-B5B7-CD50F0A330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7"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4DDDC5-4A87-40B1-A4DD-8A63927E90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2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B8C911F-04FE-44E4-BAA3-50ADDF7DEA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8"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2F2C7-6233-4973-B1A7-93BD5F893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25"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4777D62-769B-4D16-AF00-1A8BF005B5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D9CAD-EC20-474E-AC19-C196C7FFA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3"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5D001-BEF3-4DC8-8290-45771B98F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5"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1E76F-7B31-42B4-A3C2-052AC12A4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FA628-F0AB-4ED8-8C3B-5711DDC71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03814-7CCD-4499-9315-E119BEA63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CCB45-6116-4B81-B11F-F05F22B4A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37FE1-7EEF-493C-ACD5-51E27B70C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B7F6A-FD7F-4F58-9F4E-CDB3B6BAA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14208-0AC4-4094-AFD1-E06EEA513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A7BBF-4F83-438F-B445-366B08862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4"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B1592-FB05-4A19-BD31-51E9B4AA8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26859C-A572-47D5-851E-C5BD28FB0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2"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F7C22-D470-4678-9FF5-9838368F0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67BECB-0FAC-456E-B406-FDF9592EDD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6"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EED7DE-1CE2-488A-802B-853C56380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8"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AFF268-3456-459C-897A-665FF56B4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412D64-E40C-48AC-96C5-8F206CD49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FFE3DA-21D8-4B02-B8FA-0E04632B08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98167-2985-4276-8101-481AB262E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5044D4-1743-4CFD-BAF9-375AD60D63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373079-E55A-4E90-AA39-7B6EF4009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F420D-5C94-4957-B6F7-1213C96AA2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E5022-C40E-486B-8F3E-68DE57BE2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7"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1C9D6A-9878-4112-B312-309DC08665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647A2E-9BD6-42FC-A78F-E53B8193F6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5"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5E7967-43FA-490C-BD2D-C584596DB3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02B39A-4DC0-4381-B88D-3C638D3C68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9"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154829-EEA3-4504-BC28-0431E5B9CF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1"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6E1815-E625-4717-8DB4-2998B43FE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6AF94-778A-4B4C-8600-3D0F29D54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2514F9-8873-475B-A134-E6F9799014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C77CD0-F9AF-44D9-81D9-F0CDB551E5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657565-F286-44FB-9C24-9624A94EA1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2D01E-13C3-45B5-BE94-5A8A45E87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6E707D-09E5-4E95-95AF-24C9D9FCC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998254-FA7C-4A84-A694-0278C0B0F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0"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A6F28-8804-4177-86BA-70F78A4BDD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0CF133-CE58-405B-8AE3-A0122869FC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8"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582B7-355B-4C9B-BC35-6E16E2BDFB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12DBEE-8516-422F-828B-4645EAF7B4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FD993-030D-48FA-BEE3-AF774064C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2"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44FABB-628D-44B3-8052-B16DE452CC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4"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57AF3C-2A8A-40B9-B654-11B7109F3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EF8FA1-5CCE-4085-94E7-0F950F4C5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43105-1590-4CA9-9BC4-A62803F5F8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CE6D49-A4AA-4696-B213-A91D776BA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CC8BCE-4511-4210-9CFC-CFD803AFC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F3D67C-840F-40B7-9A66-7023F63DF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50B170-2469-41A2-B3A0-427FCDC54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3"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98125F-F49B-46F8-8C0D-C422A64274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EB59AF-6D0E-41A1-A8AC-3A27EE8782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5A4C2-D063-462D-80BE-0FF415805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1"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FB887D-CE79-4F6F-8347-DC55E27F18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2C2F13-F9FD-423A-AECD-83947F7AD8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5"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D0775A-1651-4D2D-AF6B-B584500F7A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7"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2B8EF7-6CF6-49B3-A740-3052F063B2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41A2BC-D64C-47A8-800C-FBD2BAE38A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FA0EAF-A58A-4583-B071-589A37294F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A8D6D3-CBB7-40B4-A287-0B38119416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4"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97ACF-401D-4CB8-9E29-256F42ED6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8"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6A9786-A326-4891-957F-88539311F5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A2EB7F-01ED-4FAC-842D-0225A76ACD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58004-9CE0-498B-A95C-C0F1F3A82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6"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FA0111-19EA-41A8-88DA-F2CA3DBA1B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869D74-2B0C-4638-BD1F-4290007F64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4"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A8B964-B5C9-4D85-AE76-7B82B33C80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BFFB8F-EDE9-49E8-9C59-EA060CF074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68"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19B0CD-9953-485C-BB44-D52CF16ECC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0"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D8CAFC-17E6-47F3-8947-9A2E6E5E53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F32A79-C5CF-4783-9A2F-D09DFBA286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8E9C1A-B7DA-4096-82F2-1D0B3E63D0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CE8FF6-3327-4A4A-8FCF-EC4F8569C9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EBF64-AAFE-4E1B-A2EC-B12798CD1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6BA3B-1503-45C6-91BE-950314DFB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1"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7E2BFC-635A-4127-BFA9-9F856D254D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E9E0FF-FF2A-4044-BEDD-5F2A95AAA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9"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E399F6-EB29-4F7B-932F-B9E9F4B51C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7CBAA4-F35B-419D-90A2-203F120CE2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7"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656A26-F952-4DAF-A58C-5EEF1AB0C0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ED654A-03F8-43FA-A454-57283C93FC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1"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50BB4F-5F13-4DCC-A499-B1B0B99E4A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3"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E46FE8-FCE8-4E1D-966D-4AF090886E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42AE07-ACF6-4AD3-90B1-D3D090423B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57E8DB-E895-4FEA-B8AE-6B17217024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54D75-02AB-4B14-B6A7-3D3867918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EB40DC-ED35-4662-9B52-4EB122D7A2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EFA894-2201-42D5-92BC-0B07F4FD18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4"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B64E4A-F2A3-4E59-9A49-D8774F7FC0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44F72F-03AA-4C65-9763-426ED7FF30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2"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94767E-2BDF-4B63-B08A-A9F1189FA4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17016B-4430-4E72-9C82-189B8F0321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40"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52878C-4914-49DD-9D8A-0F0BA9FCB5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F63021-39FB-4593-99B2-A9FF5936FF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4"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A1252A-A349-4C94-9DB1-5649DA7FC9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6"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55DD02-0B13-4BEB-9D97-4443643D74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629400" y="6418440"/>
            <a:ext cx="1136520" cy="280800"/>
          </a:xfrm>
          <a:prstGeom prst="rect">
            <a:avLst/>
          </a:prstGeom>
          <a:ln w="0">
            <a:noFill/>
          </a:ln>
        </p:spPr>
      </p:pic>
      <p:sp>
        <p:nvSpPr>
          <p:cNvPr id="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2"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5" name="PlaceHolder 5"/>
          <p:cNvSpPr>
            <a:spLocks noGrp="1"/>
          </p:cNvSpPr>
          <p:nvPr>
            <p:ph type="sldNum" idx="3"/>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FD4D-62A7-4777-81C2-57342A08D8E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3310200" y="15840"/>
            <a:ext cx="227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 Confidential Inform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89" name="" descr=""/>
          <p:cNvPicPr/>
          <p:nvPr/>
        </p:nvPicPr>
        <p:blipFill>
          <a:blip r:embed="rId2"/>
          <a:stretch/>
        </p:blipFill>
        <p:spPr>
          <a:xfrm>
            <a:off x="6629400" y="6418440"/>
            <a:ext cx="1136520" cy="280800"/>
          </a:xfrm>
          <a:prstGeom prst="rect">
            <a:avLst/>
          </a:prstGeom>
          <a:ln w="0">
            <a:noFill/>
          </a:ln>
        </p:spPr>
      </p:pic>
      <p:sp>
        <p:nvSpPr>
          <p:cNvPr id="390"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391" name="PlaceHolder 2"/>
          <p:cNvSpPr>
            <a:spLocks noGrp="1"/>
          </p:cNvSpPr>
          <p:nvPr>
            <p:ph type="dt" idx="28"/>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92" name="PlaceHolder 3"/>
          <p:cNvSpPr>
            <a:spLocks noGrp="1"/>
          </p:cNvSpPr>
          <p:nvPr>
            <p:ph type="ftr" idx="29"/>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93" name="PlaceHolder 4"/>
          <p:cNvSpPr>
            <a:spLocks noGrp="1"/>
          </p:cNvSpPr>
          <p:nvPr>
            <p:ph type="sldNum" idx="30"/>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60FE-7FCC-45FD-9E93-948D6904FB9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94"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6629400" y="6418440"/>
            <a:ext cx="1136520" cy="280800"/>
          </a:xfrm>
          <a:prstGeom prst="rect">
            <a:avLst/>
          </a:prstGeom>
          <a:ln w="0">
            <a:noFill/>
          </a:ln>
        </p:spPr>
      </p:pic>
      <p:sp>
        <p:nvSpPr>
          <p:cNvPr id="45"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6" name="PlaceHolder 2"/>
          <p:cNvSpPr>
            <a:spLocks noGrp="1"/>
          </p:cNvSpPr>
          <p:nvPr>
            <p:ph type="dt" idx="4"/>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7" name="PlaceHolder 3"/>
          <p:cNvSpPr>
            <a:spLocks noGrp="1"/>
          </p:cNvSpPr>
          <p:nvPr>
            <p:ph type="ftr" idx="5"/>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8" name="PlaceHolder 4"/>
          <p:cNvSpPr>
            <a:spLocks noGrp="1"/>
          </p:cNvSpPr>
          <p:nvPr>
            <p:ph type="sldNum" idx="6"/>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14A1-3694-4414-A3BE-E7E726A6736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9"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38960" y="5904000"/>
            <a:ext cx="33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as Instruments Confidential</a:t>
            </a: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6629400" y="6418440"/>
            <a:ext cx="1136520" cy="280800"/>
          </a:xfrm>
          <a:prstGeom prst="rect">
            <a:avLst/>
          </a:prstGeom>
          <a:ln w="0">
            <a:noFill/>
          </a:ln>
        </p:spPr>
      </p:pic>
      <p:sp>
        <p:nvSpPr>
          <p:cNvPr id="89"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90"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1" name="PlaceHolder 3"/>
          <p:cNvSpPr>
            <a:spLocks noGrp="1"/>
          </p:cNvSpPr>
          <p:nvPr>
            <p:ph type="dt" idx="7"/>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92" name="PlaceHolder 4"/>
          <p:cNvSpPr>
            <a:spLocks noGrp="1"/>
          </p:cNvSpPr>
          <p:nvPr>
            <p:ph type="ftr" idx="8"/>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93" name="PlaceHolder 5"/>
          <p:cNvSpPr>
            <a:spLocks noGrp="1"/>
          </p:cNvSpPr>
          <p:nvPr>
            <p:ph type="sldNum" idx="9"/>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B866-57B3-4057-B7E8-114DB558CC1C}"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94"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6629400" y="6416640"/>
            <a:ext cx="1136520" cy="281160"/>
          </a:xfrm>
          <a:prstGeom prst="rect">
            <a:avLst/>
          </a:prstGeom>
          <a:ln w="0">
            <a:noFill/>
          </a:ln>
        </p:spPr>
      </p:pic>
      <p:sp>
        <p:nvSpPr>
          <p:cNvPr id="132"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33"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4" name="PlaceHolder 3"/>
          <p:cNvSpPr>
            <a:spLocks noGrp="1"/>
          </p:cNvSpPr>
          <p:nvPr>
            <p:ph type="dt" idx="10"/>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35" name="PlaceHolder 4"/>
          <p:cNvSpPr>
            <a:spLocks noGrp="1"/>
          </p:cNvSpPr>
          <p:nvPr>
            <p:ph type="ftr" idx="11"/>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36" name="PlaceHolder 5"/>
          <p:cNvSpPr>
            <a:spLocks noGrp="1"/>
          </p:cNvSpPr>
          <p:nvPr>
            <p:ph type="sldNum" idx="12"/>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0B01-BD4B-4FF0-A0A6-2AEC1CE5A33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37"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6629400" y="6418440"/>
            <a:ext cx="1136520" cy="280800"/>
          </a:xfrm>
          <a:prstGeom prst="rect">
            <a:avLst/>
          </a:prstGeom>
          <a:ln w="0">
            <a:noFill/>
          </a:ln>
        </p:spPr>
      </p:pic>
      <p:sp>
        <p:nvSpPr>
          <p:cNvPr id="175"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76"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7" name="PlaceHolder 3"/>
          <p:cNvSpPr>
            <a:spLocks noGrp="1"/>
          </p:cNvSpPr>
          <p:nvPr>
            <p:ph type="dt" idx="13"/>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178" name="PlaceHolder 4"/>
          <p:cNvSpPr>
            <a:spLocks noGrp="1"/>
          </p:cNvSpPr>
          <p:nvPr>
            <p:ph type="ftr" idx="14"/>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179" name="PlaceHolder 5"/>
          <p:cNvSpPr>
            <a:spLocks noGrp="1"/>
          </p:cNvSpPr>
          <p:nvPr>
            <p:ph type="sldNum" idx="15"/>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25FB-57FF-41A3-AEA5-9178DC308894}"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180"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6629400" y="6416640"/>
            <a:ext cx="1136520" cy="281160"/>
          </a:xfrm>
          <a:prstGeom prst="rect">
            <a:avLst/>
          </a:prstGeom>
          <a:ln w="0">
            <a:noFill/>
          </a:ln>
        </p:spPr>
      </p:pic>
      <p:sp>
        <p:nvSpPr>
          <p:cNvPr id="218"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19"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20" name="PlaceHolder 3"/>
          <p:cNvSpPr>
            <a:spLocks noGrp="1"/>
          </p:cNvSpPr>
          <p:nvPr>
            <p:ph type="dt" idx="16"/>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221" name="PlaceHolder 4"/>
          <p:cNvSpPr>
            <a:spLocks noGrp="1"/>
          </p:cNvSpPr>
          <p:nvPr>
            <p:ph type="ftr" idx="17"/>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222" name="PlaceHolder 5"/>
          <p:cNvSpPr>
            <a:spLocks noGrp="1"/>
          </p:cNvSpPr>
          <p:nvPr>
            <p:ph type="sldNum" idx="18"/>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F85B-61AA-42EE-ABDF-F2BFF5CA992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23"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6629400" y="6418440"/>
            <a:ext cx="1136520" cy="280800"/>
          </a:xfrm>
          <a:prstGeom prst="rect">
            <a:avLst/>
          </a:prstGeom>
          <a:ln w="0">
            <a:noFill/>
          </a:ln>
        </p:spPr>
      </p:pic>
      <p:sp>
        <p:nvSpPr>
          <p:cNvPr id="261"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62"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63" name="PlaceHolder 3"/>
          <p:cNvSpPr>
            <a:spLocks noGrp="1"/>
          </p:cNvSpPr>
          <p:nvPr>
            <p:ph type="dt" idx="19"/>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264" name="PlaceHolder 4"/>
          <p:cNvSpPr>
            <a:spLocks noGrp="1"/>
          </p:cNvSpPr>
          <p:nvPr>
            <p:ph type="ftr" idx="20"/>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265" name="PlaceHolder 5"/>
          <p:cNvSpPr>
            <a:spLocks noGrp="1"/>
          </p:cNvSpPr>
          <p:nvPr>
            <p:ph type="sldNum" idx="21"/>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3932-5CD7-4D20-A25E-90D412508DCF}"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266"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303" name="" descr=""/>
          <p:cNvPicPr/>
          <p:nvPr/>
        </p:nvPicPr>
        <p:blipFill>
          <a:blip r:embed="rId2"/>
          <a:stretch/>
        </p:blipFill>
        <p:spPr>
          <a:xfrm>
            <a:off x="6629400" y="6416640"/>
            <a:ext cx="1136520" cy="281160"/>
          </a:xfrm>
          <a:prstGeom prst="rect">
            <a:avLst/>
          </a:prstGeom>
          <a:ln w="0">
            <a:noFill/>
          </a:ln>
        </p:spPr>
      </p:pic>
      <p:sp>
        <p:nvSpPr>
          <p:cNvPr id="304"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05"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06" name="PlaceHolder 3"/>
          <p:cNvSpPr>
            <a:spLocks noGrp="1"/>
          </p:cNvSpPr>
          <p:nvPr>
            <p:ph type="dt" idx="22"/>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07" name="PlaceHolder 4"/>
          <p:cNvSpPr>
            <a:spLocks noGrp="1"/>
          </p:cNvSpPr>
          <p:nvPr>
            <p:ph type="ftr" idx="23"/>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08" name="PlaceHolder 5"/>
          <p:cNvSpPr>
            <a:spLocks noGrp="1"/>
          </p:cNvSpPr>
          <p:nvPr>
            <p:ph type="sldNum" idx="24"/>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8322-EAE6-45DB-9C08-13529B52F82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09"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6629400" y="6418440"/>
            <a:ext cx="1136520" cy="280800"/>
          </a:xfrm>
          <a:prstGeom prst="rect">
            <a:avLst/>
          </a:prstGeom>
          <a:ln w="0">
            <a:noFill/>
          </a:ln>
        </p:spPr>
      </p:pic>
      <p:sp>
        <p:nvSpPr>
          <p:cNvPr id="34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348"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9" name="PlaceHolder 3"/>
          <p:cNvSpPr>
            <a:spLocks noGrp="1"/>
          </p:cNvSpPr>
          <p:nvPr>
            <p:ph type="dt" idx="25"/>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50" name="PlaceHolder 4"/>
          <p:cNvSpPr>
            <a:spLocks noGrp="1"/>
          </p:cNvSpPr>
          <p:nvPr>
            <p:ph type="ftr" idx="26"/>
          </p:nvPr>
        </p:nvSpPr>
        <p:spPr>
          <a:xfrm>
            <a:off x="3114360" y="6537240"/>
            <a:ext cx="2895480" cy="206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51" name="PlaceHolder 5"/>
          <p:cNvSpPr>
            <a:spLocks noGrp="1"/>
          </p:cNvSpPr>
          <p:nvPr>
            <p:ph type="sldNum" idx="27"/>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E534-5AC0-4F99-B83D-2D698C434A0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52"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CP3D Driver Design</a:t>
            </a:r>
            <a:endParaRPr b="1" lang="en-US" sz="4000" spc="-1" strike="noStrike">
              <a:solidFill>
                <a:srgbClr val="ffffff"/>
              </a:solidFill>
              <a:latin typeface="Arial"/>
            </a:endParaRPr>
          </a:p>
        </p:txBody>
      </p:sp>
      <p:sp>
        <p:nvSpPr>
          <p:cNvPr id="432" name="PlaceHolder 2"/>
          <p:cNvSpPr>
            <a:spLocks noGrp="1"/>
          </p:cNvSpPr>
          <p:nvPr>
            <p:ph type="subTitle"/>
          </p:nvPr>
        </p:nvSpPr>
        <p:spPr>
          <a:xfrm>
            <a:off x="342720" y="3698640"/>
            <a:ext cx="8458200" cy="148572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vi Sankar Korada</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 0.0.4</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ust 25, 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Design details</a:t>
            </a:r>
            <a:endParaRPr b="1" lang="en-US" sz="3600" spc="-1" strike="noStrike">
              <a:solidFill>
                <a:srgbClr val="ff0000"/>
              </a:solidFill>
              <a:latin typeface="Arial"/>
            </a:endParaRPr>
          </a:p>
        </p:txBody>
      </p:sp>
      <p:graphicFrame>
        <p:nvGraphicFramePr>
          <p:cNvPr id="456" name=""/>
          <p:cNvGraphicFramePr/>
          <p:nvPr/>
        </p:nvGraphicFramePr>
        <p:xfrm>
          <a:off x="291960" y="990720"/>
          <a:ext cx="8560080" cy="5257800"/>
        </p:xfrm>
        <a:graphic>
          <a:graphicData uri="http://schemas.openxmlformats.org/presentationml/2006/ole">
            <p:oleObj r:id="rId1" spid="">
              <p:embed/>
              <p:pic>
                <p:nvPicPr>
                  <p:cNvPr id="457" name="" descr=""/>
                  <p:cNvPicPr/>
                  <p:nvPr/>
                </p:nvPicPr>
                <p:blipFill>
                  <a:blip r:embed="rId2"/>
                  <a:stretch/>
                </p:blipFill>
                <p:spPr>
                  <a:xfrm>
                    <a:off x="291960" y="990720"/>
                    <a:ext cx="85600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Timing Diagram – 8 code blocks</a:t>
            </a:r>
            <a:endParaRPr b="1" lang="en-US" sz="3600" spc="-1" strike="noStrike">
              <a:solidFill>
                <a:srgbClr val="ff0000"/>
              </a:solidFill>
              <a:latin typeface="Arial"/>
            </a:endParaRPr>
          </a:p>
        </p:txBody>
      </p:sp>
      <p:graphicFrame>
        <p:nvGraphicFramePr>
          <p:cNvPr id="459" name=""/>
          <p:cNvGraphicFramePr/>
          <p:nvPr/>
        </p:nvGraphicFramePr>
        <p:xfrm>
          <a:off x="152280" y="914400"/>
          <a:ext cx="8763120" cy="5334120"/>
        </p:xfrm>
        <a:graphic>
          <a:graphicData uri="http://schemas.openxmlformats.org/presentationml/2006/ole">
            <p:oleObj r:id="rId1" spid="">
              <p:embed/>
              <p:pic>
                <p:nvPicPr>
                  <p:cNvPr id="460" name="" descr=""/>
                  <p:cNvPicPr/>
                  <p:nvPr/>
                </p:nvPicPr>
                <p:blipFill>
                  <a:blip r:embed="rId2"/>
                  <a:stretch/>
                </p:blipFill>
                <p:spPr>
                  <a:xfrm>
                    <a:off x="152280" y="914400"/>
                    <a:ext cx="876312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Initialization)</a:t>
            </a:r>
            <a:endParaRPr b="1" lang="en-US" sz="3600" spc="-1" strike="noStrike">
              <a:solidFill>
                <a:srgbClr val="ff0000"/>
              </a:solidFill>
              <a:latin typeface="Arial"/>
            </a:endParaRPr>
          </a:p>
        </p:txBody>
      </p:sp>
      <p:sp>
        <p:nvSpPr>
          <p:cNvPr id="462"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getNumBuf()</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returning the number of buffers required information</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Driver Size configuration paramet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es the buffer requirements based on the size configuration information provided</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s the number of buffers required into the pointer provided</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getBufDesc()</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memBuffer array</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Driver Size configuration paramet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s the memBuffer structure fields for each buffer required</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memBuffer fields are size, alignment, memory type (volatile or non-volatile), memory class needed, etc.</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unction required two fields from the size configuration structure be set before calling. Size values are computed from the mode and the maxCodeBlocks values.</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in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memBuffer array with base addresses filled after allocating memory</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driver initialization parameters structure which covers all the possible inputs required for the drive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Configuration Parameters Structure for TCP3 decode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P Core ID</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um code blocks possible in any sub-frame</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EDMA3 LLD handle</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 channels for Ping and Pong, etc</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called once to setup driver for the operating mode as specified in the control configuration parameter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initializes all the internal buffers and instances with the memBuffer structure value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s all the required resources provided through the driver init structure – for example EDMA channels, PaRAMs, etc.</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s the TCP3D internal state machine by writing into the common Configuration registers (mode, emulation, execution)</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s all the known fields in the pseudo PaRAM memory based on the mode to make the enqueue function as light as possible</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izes the EDMA3 PaRAM entries of all the allocated physical channels with the known values at this tim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Run-time)</a:t>
            </a:r>
            <a:endParaRPr b="1" lang="en-US" sz="3600" spc="-1" strike="noStrike">
              <a:solidFill>
                <a:srgbClr val="ff0000"/>
              </a:solidFill>
              <a:latin typeface="Arial"/>
            </a:endParaRPr>
          </a:p>
        </p:txBody>
      </p:sp>
      <p:sp>
        <p:nvSpPr>
          <p:cNvPr id="464"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ubFrmRese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of the status array buffer for the sub-frame where the status output will be DMAe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ode blocks in the sub-frame</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driver instance with the input argument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es the driver sub-frame variables to the default value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ts the pseudo PaRAM fields and allocated EDMA channel PaRAM fields</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enqueCodeBlock()</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prepared input configuration registers memor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Block length valu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input LLR data streams (systematic, parity0 and parity1)</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between the input LLR stream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where the output hard decisions to be DMAe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rupt Flag</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is to be called in the run-time for appending the code blocks to the input lists. This function appends the code blocks alternately among the Ping and Pong lists which are used for loading into either the Ping or Pong memories of TCP3 Decoder.</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is function copies the input configuration registers memory to the appropriate location in the initialization time allocated buffer arra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Hard Decision pseudo PaRAM entries to enable the chaining from the previous one in the list</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LLR pseudo PaRAM entries with the given pointers and values according to the mod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checks for the end of the list using the subFrmCodeBlocks value set when the sub-frame reset function is called, so as to generate completion interrupts for Ping and Pong path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Run-time) (cont..)</a:t>
            </a:r>
            <a:endParaRPr b="1" lang="en-US" sz="3600" spc="-1" strike="noStrike">
              <a:solidFill>
                <a:srgbClr val="ff0000"/>
              </a:solidFill>
              <a:latin typeface="Arial"/>
            </a:endParaRPr>
          </a:p>
        </p:txBody>
      </p:sp>
      <p:sp>
        <p:nvSpPr>
          <p:cNvPr id="466"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tart()</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pass a valid command to choose ping or pong list to be started using the startFlag in the instance before calling this API, otherwise this API does nothing and returns No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starting the input data transfers to the TCP3 decoder ping or pong memories.</a:t>
            </a:r>
            <a:endParaRPr b="0" lang="en-US" sz="12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control()</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driver control structur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specify a valid command in the control structure before calling this API, otherwise it will throw an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doing specific things in the driver as defined by the control commands.</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are very few commands defined and scope of this API can be extended in future to include more commands as needed.</a:t>
            </a:r>
            <a:endParaRPr b="0" lang="en-US" sz="12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tatus()</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driver status structur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specify a valid command in the status structure before calling this API, otherwise it will throw an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providing specific information from the driver instance as defined by the status commands. For example one can use this to get the state of the drive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are very few commands defined and scope of this API can be extended in future to include more commands as need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Utility APIs</a:t>
            </a:r>
            <a:endParaRPr b="1" lang="en-US" sz="3600" spc="-1" strike="noStrike">
              <a:solidFill>
                <a:srgbClr val="ff0000"/>
              </a:solidFill>
              <a:latin typeface="Arial"/>
            </a:endParaRPr>
          </a:p>
        </p:txBody>
      </p:sp>
      <p:sp>
        <p:nvSpPr>
          <p:cNvPr id="468" name="PlaceHolder 2"/>
          <p:cNvSpPr>
            <a:spLocks noGrp="1"/>
          </p:cNvSpPr>
          <p:nvPr>
            <p:ph/>
          </p:nvPr>
        </p:nvSpPr>
        <p:spPr>
          <a:xfrm>
            <a:off x="333000" y="914040"/>
            <a:ext cx="8505720" cy="5062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3D_DRV_prepConfigRe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parameters</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input configuration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final IC registers memory for the current code block</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temp IC memory created</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 to tell whether to generate fixed registers (genFixedRegs) or copy from temp IC memor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 to tell the decoder type</a:t>
            </a:r>
            <a:endParaRPr b="0" lang="en-US" sz="1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ity</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place all parameters into appropriate fields into the given final IC registers memory from the input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genFixedRegs flag is NULL, then fixed registers are copied from the temp IC memor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3GPP type decoder, IC12-14 are always zeroed</a:t>
            </a: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3D_DRV_prepFixedConfigRe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parameters</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input configuration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temp IC registers memory</a:t>
            </a:r>
            <a:endParaRPr b="0" lang="en-US" sz="1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ity</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es the fixed portions of temporary register memory from the parameters sen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value is used to determine which fixed registers are prepa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Input Configuration Registers (3GPP MODE)</a:t>
            </a:r>
            <a:endParaRPr b="1" lang="en-US" sz="3200" spc="-1" strike="noStrike">
              <a:solidFill>
                <a:srgbClr val="ff0000"/>
              </a:solidFill>
              <a:latin typeface="Arial"/>
            </a:endParaRPr>
          </a:p>
        </p:txBody>
      </p:sp>
      <p:graphicFrame>
        <p:nvGraphicFramePr>
          <p:cNvPr id="470" name=""/>
          <p:cNvGraphicFramePr/>
          <p:nvPr/>
        </p:nvGraphicFramePr>
        <p:xfrm>
          <a:off x="511200" y="1185840"/>
          <a:ext cx="8112240" cy="4692600"/>
        </p:xfrm>
        <a:graphic>
          <a:graphicData uri="http://schemas.openxmlformats.org/presentationml/2006/ole">
            <p:oleObj r:id="rId1" spid="">
              <p:embed/>
              <p:pic>
                <p:nvPicPr>
                  <p:cNvPr id="471" name="" descr=""/>
                  <p:cNvPicPr/>
                  <p:nvPr/>
                </p:nvPicPr>
                <p:blipFill>
                  <a:blip r:embed="rId2"/>
                  <a:stretch/>
                </p:blipFill>
                <p:spPr>
                  <a:xfrm>
                    <a:off x="511200" y="1185840"/>
                    <a:ext cx="811224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Input Configuration Registers (LTE/WIMAX MODE)</a:t>
            </a:r>
            <a:endParaRPr b="1" lang="en-US" sz="3200" spc="-1" strike="noStrike">
              <a:solidFill>
                <a:srgbClr val="ff0000"/>
              </a:solidFill>
              <a:latin typeface="Arial"/>
            </a:endParaRPr>
          </a:p>
        </p:txBody>
      </p:sp>
      <p:graphicFrame>
        <p:nvGraphicFramePr>
          <p:cNvPr id="473" name=""/>
          <p:cNvGraphicFramePr/>
          <p:nvPr/>
        </p:nvGraphicFramePr>
        <p:xfrm>
          <a:off x="511200" y="1185840"/>
          <a:ext cx="8112240" cy="4692600"/>
        </p:xfrm>
        <a:graphic>
          <a:graphicData uri="http://schemas.openxmlformats.org/presentationml/2006/ole">
            <p:oleObj r:id="rId1" spid="">
              <p:embed/>
              <p:pic>
                <p:nvPicPr>
                  <p:cNvPr id="474" name="" descr=""/>
                  <p:cNvPicPr/>
                  <p:nvPr/>
                </p:nvPicPr>
                <p:blipFill>
                  <a:blip r:embed="rId2"/>
                  <a:stretch/>
                </p:blipFill>
                <p:spPr>
                  <a:xfrm>
                    <a:off x="511200" y="1185840"/>
                    <a:ext cx="811224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34" name="PlaceHolder 2"/>
          <p:cNvSpPr>
            <a:spLocks noGrp="1"/>
          </p:cNvSpPr>
          <p:nvPr>
            <p:ph/>
          </p:nvPr>
        </p:nvSpPr>
        <p:spPr>
          <a:xfrm>
            <a:off x="1333440" y="1528920"/>
            <a:ext cx="6238800" cy="3585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 History</a:t>
            </a:r>
            <a:endParaRPr b="0" lang="en-US" sz="1800" spc="-1" strike="noStrike">
              <a:solidFill>
                <a:srgbClr val="000000"/>
              </a:solidFill>
              <a:latin typeface="Arial"/>
            </a:endParaRPr>
          </a:p>
        </p:txBody>
      </p:sp>
      <p:graphicFrame>
        <p:nvGraphicFramePr>
          <p:cNvPr id="435" name=""/>
          <p:cNvGraphicFramePr/>
          <p:nvPr/>
        </p:nvGraphicFramePr>
        <p:xfrm>
          <a:off x="1447920" y="1882800"/>
          <a:ext cx="6095880" cy="2093760"/>
        </p:xfrm>
        <a:graphic>
          <a:graphicData uri="http://schemas.openxmlformats.org/drawingml/2006/table">
            <a:tbl>
              <a:tblPr/>
              <a:tblGrid>
                <a:gridCol w="1228680"/>
                <a:gridCol w="981000"/>
                <a:gridCol w="1104840"/>
                <a:gridCol w="27813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31/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vi Kor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3/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vi Kor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d APIs and Diagram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19/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vi Kor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d API descriptions and the flow diagram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25/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vi Kor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CP3D Driver - Preliminary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Operating Modes</a:t>
            </a:r>
            <a:endParaRPr b="1" lang="en-US" sz="3600" spc="-1" strike="noStrike">
              <a:solidFill>
                <a:srgbClr val="ff0000"/>
              </a:solidFill>
              <a:latin typeface="Arial"/>
            </a:endParaRPr>
          </a:p>
        </p:txBody>
      </p:sp>
      <p:sp>
        <p:nvSpPr>
          <p:cNvPr id="438" name="PlaceHolder 2"/>
          <p:cNvSpPr>
            <a:spLocks noGrp="1"/>
          </p:cNvSpPr>
          <p:nvPr>
            <p:ph/>
          </p:nvPr>
        </p:nvSpPr>
        <p:spPr>
          <a:xfrm>
            <a:off x="333360" y="1185480"/>
            <a:ext cx="8467920" cy="498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 M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eparate EDMA channels are used for both Input and Output transfers (4 physical channels requi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nput and output memory sets are used independent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AP decoders are used independently to operate with two independent memory set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Buffer M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eparate EDMA channels are used for both Input and Output transfers (4 physical channels requi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ndependent input memory sets are used for input transfers, but the decoding will happen only after reading the previous outpu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AP decoders are used with one input data memory se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Buffer M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eparate EDMA channels are used for both Input and Output transfers (2 physical channels requi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MAP decoder is us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memory set is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560" y="-360"/>
            <a:ext cx="883908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Design Idea</a:t>
            </a:r>
            <a:endParaRPr b="1" lang="en-US" sz="3600" spc="-1" strike="noStrike">
              <a:solidFill>
                <a:srgbClr val="ff0000"/>
              </a:solidFill>
              <a:latin typeface="Arial"/>
            </a:endParaRPr>
          </a:p>
        </p:txBody>
      </p:sp>
      <p:graphicFrame>
        <p:nvGraphicFramePr>
          <p:cNvPr id="440" name=""/>
          <p:cNvGraphicFramePr/>
          <p:nvPr/>
        </p:nvGraphicFramePr>
        <p:xfrm>
          <a:off x="304920" y="2895480"/>
          <a:ext cx="8534160" cy="3351240"/>
        </p:xfrm>
        <a:graphic>
          <a:graphicData uri="http://schemas.openxmlformats.org/presentationml/2006/ole">
            <p:oleObj r:id="rId1" spid="">
              <p:embed/>
              <p:pic>
                <p:nvPicPr>
                  <p:cNvPr id="441" name="" descr=""/>
                  <p:cNvPicPr/>
                  <p:nvPr/>
                </p:nvPicPr>
                <p:blipFill>
                  <a:blip r:embed="rId2"/>
                  <a:stretch/>
                </p:blipFill>
                <p:spPr>
                  <a:xfrm>
                    <a:off x="304920" y="2895480"/>
                    <a:ext cx="8534160" cy="3351240"/>
                  </a:xfrm>
                  <a:prstGeom prst="rect">
                    <a:avLst/>
                  </a:prstGeom>
                  <a:ln w="0">
                    <a:noFill/>
                  </a:ln>
                </p:spPr>
              </p:pic>
            </p:oleObj>
          </a:graphicData>
        </a:graphic>
      </p:graphicFrame>
      <p:sp>
        <p:nvSpPr>
          <p:cNvPr id="442" name=""/>
          <p:cNvSpPr/>
          <p:nvPr/>
        </p:nvSpPr>
        <p:spPr>
          <a:xfrm>
            <a:off x="304920" y="914400"/>
            <a:ext cx="8534160" cy="1905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rocessing task upon soft bits (LLR) ready performs:</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queues CBs to TCP3D input pseudo PaRAM list in L2 which holds the actual PaRAMs prepared.</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 driver copies pseudo PaRAM sets to EDMA PaRAM space and executes them.</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arts TCP3D driver if it is not running. This can be done by polling the stop flag or by using ISR function.</a:t>
            </a:r>
            <a:endParaRPr b="0" lang="en-US" sz="1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processing task can be triggered by enabling the driver to generate interrupt on decoding a specific code blo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graphicFrame>
        <p:nvGraphicFramePr>
          <p:cNvPr id="444" name=""/>
          <p:cNvGraphicFramePr/>
          <p:nvPr/>
        </p:nvGraphicFramePr>
        <p:xfrm>
          <a:off x="892080" y="1185840"/>
          <a:ext cx="7348680" cy="4692600"/>
        </p:xfrm>
        <a:graphic>
          <a:graphicData uri="http://schemas.openxmlformats.org/presentationml/2006/ole">
            <p:oleObj r:id="rId1" spid="">
              <p:embed/>
              <p:pic>
                <p:nvPicPr>
                  <p:cNvPr id="445" name="" descr=""/>
                  <p:cNvPicPr/>
                  <p:nvPr/>
                </p:nvPicPr>
                <p:blipFill>
                  <a:blip r:embed="rId2"/>
                  <a:stretch/>
                </p:blipFill>
                <p:spPr>
                  <a:xfrm>
                    <a:off x="892080" y="1185840"/>
                    <a:ext cx="734868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High Level Flow</a:t>
            </a:r>
            <a:endParaRPr b="1" lang="en-US" sz="3600" spc="-1" strike="noStrike">
              <a:solidFill>
                <a:srgbClr val="ff0000"/>
              </a:solidFill>
              <a:latin typeface="Arial"/>
            </a:endParaRPr>
          </a:p>
        </p:txBody>
      </p:sp>
      <p:graphicFrame>
        <p:nvGraphicFramePr>
          <p:cNvPr id="447" name=""/>
          <p:cNvGraphicFramePr/>
          <p:nvPr/>
        </p:nvGraphicFramePr>
        <p:xfrm>
          <a:off x="762120" y="995400"/>
          <a:ext cx="7564320" cy="5253120"/>
        </p:xfrm>
        <a:graphic>
          <a:graphicData uri="http://schemas.openxmlformats.org/presentationml/2006/ole">
            <p:oleObj r:id="rId1" spid="">
              <p:embed/>
              <p:pic>
                <p:nvPicPr>
                  <p:cNvPr id="448" name="" descr=""/>
                  <p:cNvPicPr/>
                  <p:nvPr/>
                </p:nvPicPr>
                <p:blipFill>
                  <a:blip r:embed="rId2"/>
                  <a:stretch/>
                </p:blipFill>
                <p:spPr>
                  <a:xfrm>
                    <a:off x="762120" y="995400"/>
                    <a:ext cx="7564320" cy="52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Task Flow Example</a:t>
            </a:r>
            <a:endParaRPr b="1" lang="en-US" sz="3600" spc="-1" strike="noStrike">
              <a:solidFill>
                <a:srgbClr val="ff0000"/>
              </a:solidFill>
              <a:latin typeface="Arial"/>
            </a:endParaRPr>
          </a:p>
        </p:txBody>
      </p:sp>
      <p:graphicFrame>
        <p:nvGraphicFramePr>
          <p:cNvPr id="450" name=""/>
          <p:cNvGraphicFramePr/>
          <p:nvPr/>
        </p:nvGraphicFramePr>
        <p:xfrm>
          <a:off x="550800" y="1566720"/>
          <a:ext cx="8032680" cy="3927600"/>
        </p:xfrm>
        <a:graphic>
          <a:graphicData uri="http://schemas.openxmlformats.org/presentationml/2006/ole">
            <p:oleObj r:id="rId1" spid="">
              <p:embed/>
              <p:pic>
                <p:nvPicPr>
                  <p:cNvPr id="451" name="" descr=""/>
                  <p:cNvPicPr/>
                  <p:nvPr/>
                </p:nvPicPr>
                <p:blipFill>
                  <a:blip r:embed="rId2"/>
                  <a:stretch/>
                </p:blipFill>
                <p:spPr>
                  <a:xfrm>
                    <a:off x="550800" y="1566720"/>
                    <a:ext cx="8032680" cy="392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pplication Example flow</a:t>
            </a:r>
            <a:endParaRPr b="1" lang="en-US" sz="3600" spc="-1" strike="noStrike">
              <a:solidFill>
                <a:srgbClr val="ff0000"/>
              </a:solidFill>
              <a:latin typeface="Arial"/>
            </a:endParaRPr>
          </a:p>
        </p:txBody>
      </p:sp>
      <p:graphicFrame>
        <p:nvGraphicFramePr>
          <p:cNvPr id="453" name=""/>
          <p:cNvGraphicFramePr/>
          <p:nvPr/>
        </p:nvGraphicFramePr>
        <p:xfrm>
          <a:off x="1770120" y="1185840"/>
          <a:ext cx="5594400" cy="5062680"/>
        </p:xfrm>
        <a:graphic>
          <a:graphicData uri="http://schemas.openxmlformats.org/presentationml/2006/ole">
            <p:oleObj r:id="rId1" spid="">
              <p:embed/>
              <p:pic>
                <p:nvPicPr>
                  <p:cNvPr id="454" name="" descr=""/>
                  <p:cNvPicPr/>
                  <p:nvPr/>
                </p:nvPicPr>
                <p:blipFill>
                  <a:blip r:embed="rId2"/>
                  <a:stretch/>
                </p:blipFill>
                <p:spPr>
                  <a:xfrm>
                    <a:off x="1770120" y="1185840"/>
                    <a:ext cx="5594400" cy="50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0756906</cp:lastModifiedBy>
  <dcterms:modified xsi:type="dcterms:W3CDTF">2009-10-26T18:56:51Z</dcterms:modified>
  <cp:revision>2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