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34030-B6EB-46C3-B37C-5A13EBB9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0B0F-A079-444B-90AB-026659DD6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606CED-F42B-4878-852B-F250395BF3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5A020D-0748-491E-A49F-EE8F612384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B902C4-E26F-4760-BD9A-324142CB65C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C10EEB-ABD0-417F-A41F-D1B0B13C3D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A2171F-4930-43B4-A33A-A29D938135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679736-9201-4342-84A7-E04F1DB1BB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9EFC09-3276-429B-8688-936829F9A94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D7820B9-9D55-4D68-BFA5-8B54D50F40B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70244FE-049E-43BB-AFE0-DD57200262D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00AB5A0-ACF2-49D0-A726-448FA05846B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1CCC5-E763-466D-BDB7-8FB08983C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15709E-1D6C-4403-B64D-B0575E39B0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195C268-EA7C-4ECC-80DC-B74FB0518E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FCFDAC-2C15-46F2-BC47-6C75C57876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0134A5-BEBF-496C-B33D-3B044E6BFD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9F3E8C5-BC4F-433A-ABF1-52C3A2880C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AE36380-C55A-403C-91E9-E43BEA1A80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658E93-60C5-42C8-8C6D-D9671304F5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AEB1DE7-401A-4BDE-B7E2-729CD0C9B8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545F68A-93DE-4CD0-830E-366AA76F85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EFB43FD-2CA1-4B5F-8FFB-0C91F32AF9B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54B57-571A-43DB-836A-708FC0D4B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A1242BE-BD47-4C3E-99C8-0A754A80C6F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C3AD57-4070-4CBE-9B3A-27E3FF59A33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sldNum" idx="5"/>
          </p:nvPr>
        </p:nvSpPr>
        <p:spPr/>
        <p:txBody>
          <a:bodyPr/>
          <a:p>
            <a:fld id="{F331D838-23ED-4492-BED7-92E7A85FF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B8ABD734-D8B8-47DA-B966-3177C524A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6F701D96-D317-4374-892F-7FEA2532A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sldNum" idx="5"/>
          </p:nvPr>
        </p:nvSpPr>
        <p:spPr/>
        <p:txBody>
          <a:bodyPr/>
          <a:p>
            <a:fld id="{255C64EB-FC60-40B7-845F-9991197E8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sldNum" idx="5"/>
          </p:nvPr>
        </p:nvSpPr>
        <p:spPr/>
        <p:txBody>
          <a:bodyPr/>
          <a:p>
            <a:fld id="{04121F2C-E6BF-47D6-A7A0-47DC8A32B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F1E2B58-B728-40F4-82C8-137EBC5DF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6BB6-84A5-40A6-BC30-CB005ABC3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B472EE82-6087-47C9-A1D2-42E864F12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F0ADB2D0-FE40-4BA5-BC2E-31CD6789D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E9F8F505-28DA-4689-B0A1-0CA8A4CE2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B9F8A4F4-D788-48BE-845A-62DFDE32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8E35DA62-2D82-4C1D-8703-57C4F6F066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2F8612-5E6E-492D-8C3F-28E5B14556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84A6E5-E910-458F-BC05-021E3F539B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D5193F-D513-4CF1-AC65-8D178232BF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7F669C-18D4-4040-A232-1A96C1E5DC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CE6D30-FF0A-4DDC-A803-AC60582170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5269-0A00-40D8-AE0C-7EC2FD9B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571B57-C759-44C6-9CFE-2EE9ADA5A5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DC96F4-9892-4F83-AF7C-690B5BBBAE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6D07F9-AC55-4509-A040-7CEA923897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6EBD18-BED0-4BB6-B67F-7965BCD2E2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B45977-9D62-4DDC-B7AF-369BC58EE6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02B7B9-D781-4173-8329-D93DF08574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0CEEA7-BE35-474B-B35E-BDAC345CC2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9A2107-E196-4D72-8BD3-B1E6115FED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438B22-DBBC-468F-8E92-70C2B1E063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C5F234-7DA5-488A-823C-81AE4A03AD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9857-2EE7-4139-BF02-A809EAD3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B63C72-F315-4A39-B775-BD274B90BA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BCFF2F-9818-4D19-946A-9E6F94050C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944C46-7DBF-4D30-A892-7397B3220D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8FE9EF-1D4B-4A55-8D05-3C699B8BC5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747A40-C513-4D8A-B71F-973EE62B50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FF5F74-9F44-4D52-BE63-0E36BF1E30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7AC82D-BDB0-46FD-A9E7-14D9D879FE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6BA1F96-281F-48EA-B18A-900F4F6267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F31202-4A63-4DC8-A992-87FB2E4536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D27429-302D-4FC1-92A7-2F8FFDBFDA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689F-0358-48F7-8FEC-71D120248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0"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9CBEB9-BE6A-4440-AA55-610B1BB5B2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B29000-7580-459C-A41C-F6ABDF36A5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44B0EA-9350-49E2-853B-CF2BD26E73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67E0E4-81F8-4515-A048-825F0B601A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673047-7BEC-439B-ACC4-2D0AE1489B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87BE6C-7271-4A9A-8829-8CA096306C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EF46AC-0C05-4785-B74B-D23F81A392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1AE3F9-BB57-4F26-BF51-CBB233C19F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1"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A8CCB8-7338-486E-A92D-D17693BEBDF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408393-27B2-4EF5-A215-A825FFD0192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696E-2F04-4537-B044-E3DF303D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9"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388D6D1-32B4-482E-A066-15F592F3763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938FDF7-8A8E-4FD0-8575-40CC87428A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BA07FD6-E0E6-4D21-B749-E15A31E60F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D53FDF9-9DA8-43F0-8521-9C89266268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0C57AB-2499-44E9-8A5F-B16DED3700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769DC1-3ECE-4EC6-8799-5AE9565110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943152-1B9C-4AB5-A638-D9812E801C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D3D6AF-77F9-49FB-BB17-F1EB876FEE0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2AA1C8-37AC-4FF2-A487-5838C7FE9A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6355BF-FD65-41AD-B8B1-2E00022A36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EF7A-130A-4F5E-B505-52CB84985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458E3F-1733-41F2-BEB8-10450A17F7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ADD1687-869B-4C68-89D1-BC69CDDBE86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5565E6-8060-4504-A7B2-60ACF7689DD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549FABD-EF28-47F9-8DDB-2D5F32CEB67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589995-A009-4BBE-82E8-C1C4586B76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6FDD16-A078-4432-82CE-43E837BC73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225EC3-DF2F-48E3-8B33-6E9B7B64C64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CD47BA-39C2-4D95-816E-897C1FD758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6F161B-E398-4DEB-A756-867CEFF99D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8E045E-C734-4C4B-8716-3740E30E6A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4C9C-41E7-450E-A010-9593FD40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BD096D-B4B3-4D10-8AB5-5EC39D0023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708F82-076D-440C-B90C-3701D1CA9D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C686BA-3842-493E-A0EB-30C5B5186B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273D359-8436-434B-A82B-2E8BE6E8B7B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253D39-9BCC-4215-A2E2-777926DA174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F5DFB78-F046-4374-8AE6-9E571C777D0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11E5F4D-906D-4193-A3F3-89B9362FB66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9F2BA3-1E17-4159-9F9D-CBDC6B0D66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DAE5F1-A248-4DF5-9476-B6C8E7089D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784C0A-762B-4E77-B600-B97C1E67FB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A712-4E0E-4C0F-8A52-F3B11E29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3244C5-275F-4B00-BB0E-33397C255C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66D5D6-40AB-4F89-8DE7-E519F93E64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2DDA97-90E6-4A9E-9968-4A41772B3C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48CD5F-00DD-47D8-9D3C-19000D113DE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8CA237-F4EE-4237-B1A1-A71FCA645B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A0AD5D-7A44-41FB-8FF8-3C7B6D1526B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5596DE-A915-417E-8B9C-90FCAF8A7BA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7EAF1C-BCF0-4C54-84B2-C43DFE5F771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D676D3-494A-482D-933C-EA9806747F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FD6E45-E017-40C8-8890-6B11CEE8427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42276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2819160" y="6400440"/>
            <a:ext cx="342900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42276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88C6-8A11-4B20-81E3-0442357CB0A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6629400" y="6418440"/>
            <a:ext cx="1136520" cy="280800"/>
          </a:xfrm>
          <a:prstGeom prst="rect">
            <a:avLst/>
          </a:prstGeom>
          <a:ln w="0">
            <a:noFill/>
          </a:ln>
        </p:spPr>
      </p:pic>
      <p:sp>
        <p:nvSpPr>
          <p:cNvPr id="388"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89" name="PlaceHolder 2"/>
          <p:cNvSpPr>
            <a:spLocks noGrp="1"/>
          </p:cNvSpPr>
          <p:nvPr>
            <p:ph type="dt" idx="27"/>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0" name="PlaceHolder 3"/>
          <p:cNvSpPr>
            <a:spLocks noGrp="1"/>
          </p:cNvSpPr>
          <p:nvPr>
            <p:ph type="ftr" idx="28"/>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1" name="PlaceHolder 4"/>
          <p:cNvSpPr>
            <a:spLocks noGrp="1"/>
          </p:cNvSpPr>
          <p:nvPr>
            <p:ph type="sldNum" idx="29"/>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B244-C245-4863-92B6-FD8D2A8EA88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29400" y="6418440"/>
            <a:ext cx="1136520" cy="280800"/>
          </a:xfrm>
          <a:prstGeom prst="rect">
            <a:avLst/>
          </a:prstGeom>
          <a:ln w="0">
            <a:noFill/>
          </a:ln>
        </p:spPr>
      </p:pic>
      <p:sp>
        <p:nvSpPr>
          <p:cNvPr id="44"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355680" y="6422760"/>
            <a:ext cx="213336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641640" y="6422760"/>
            <a:ext cx="2133720" cy="20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AAE1-0DA0-405E-870B-F062EE213BD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43200" y="6404040"/>
            <a:ext cx="3657600" cy="22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629400" y="6418440"/>
            <a:ext cx="1136520" cy="280800"/>
          </a:xfrm>
          <a:prstGeom prst="rect">
            <a:avLst/>
          </a:prstGeom>
          <a:ln w="0">
            <a:noFill/>
          </a:ln>
        </p:spPr>
      </p:pic>
      <p:sp>
        <p:nvSpPr>
          <p:cNvPr id="8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8"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 name="PlaceHolder 3"/>
          <p:cNvSpPr>
            <a:spLocks noGrp="1"/>
          </p:cNvSpPr>
          <p:nvPr>
            <p:ph type="dt" idx="6"/>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7"/>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8"/>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E7B2-3015-4E7B-9294-9CDC1AD6E4F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629400" y="6416640"/>
            <a:ext cx="1136520" cy="281160"/>
          </a:xfrm>
          <a:prstGeom prst="rect">
            <a:avLst/>
          </a:prstGeom>
          <a:ln w="0">
            <a:noFill/>
          </a:ln>
        </p:spPr>
      </p:pic>
      <p:sp>
        <p:nvSpPr>
          <p:cNvPr id="130"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2" name="PlaceHolder 3"/>
          <p:cNvSpPr>
            <a:spLocks noGrp="1"/>
          </p:cNvSpPr>
          <p:nvPr>
            <p:ph type="dt" idx="9"/>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0"/>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1"/>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ED67-05BA-4BA2-9FC0-4E0979089B6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6629400" y="6418440"/>
            <a:ext cx="1136520" cy="280800"/>
          </a:xfrm>
          <a:prstGeom prst="rect">
            <a:avLst/>
          </a:prstGeom>
          <a:ln w="0">
            <a:noFill/>
          </a:ln>
        </p:spPr>
      </p:pic>
      <p:sp>
        <p:nvSpPr>
          <p:cNvPr id="173"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4"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5" name="PlaceHolder 3"/>
          <p:cNvSpPr>
            <a:spLocks noGrp="1"/>
          </p:cNvSpPr>
          <p:nvPr>
            <p:ph type="dt" idx="12"/>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6" name="PlaceHolder 4"/>
          <p:cNvSpPr>
            <a:spLocks noGrp="1"/>
          </p:cNvSpPr>
          <p:nvPr>
            <p:ph type="ftr" idx="13"/>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7" name="PlaceHolder 5"/>
          <p:cNvSpPr>
            <a:spLocks noGrp="1"/>
          </p:cNvSpPr>
          <p:nvPr>
            <p:ph type="sldNum" idx="14"/>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7C3B-F271-4461-9AA8-62966B6AF652}"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78"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6629400" y="6416640"/>
            <a:ext cx="1136520" cy="281160"/>
          </a:xfrm>
          <a:prstGeom prst="rect">
            <a:avLst/>
          </a:prstGeom>
          <a:ln w="0">
            <a:noFill/>
          </a:ln>
        </p:spPr>
      </p:pic>
      <p:sp>
        <p:nvSpPr>
          <p:cNvPr id="21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7"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8" name="PlaceHolder 3"/>
          <p:cNvSpPr>
            <a:spLocks noGrp="1"/>
          </p:cNvSpPr>
          <p:nvPr>
            <p:ph type="dt" idx="15"/>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19" name="PlaceHolder 4"/>
          <p:cNvSpPr>
            <a:spLocks noGrp="1"/>
          </p:cNvSpPr>
          <p:nvPr>
            <p:ph type="ftr" idx="16"/>
          </p:nvPr>
        </p:nvSpPr>
        <p:spPr>
          <a:xfrm>
            <a:off x="2819520" y="6448320"/>
            <a:ext cx="358128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0" name="PlaceHolder 5"/>
          <p:cNvSpPr>
            <a:spLocks noGrp="1"/>
          </p:cNvSpPr>
          <p:nvPr>
            <p:ph type="sldNum" idx="17"/>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9E9B-3B6F-4074-B7AA-2D4636919EC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1"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6629400" y="6418440"/>
            <a:ext cx="1136520" cy="280800"/>
          </a:xfrm>
          <a:prstGeom prst="rect">
            <a:avLst/>
          </a:prstGeom>
          <a:ln w="0">
            <a:noFill/>
          </a:ln>
        </p:spPr>
      </p:pic>
      <p:sp>
        <p:nvSpPr>
          <p:cNvPr id="25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1" name="PlaceHolder 3"/>
          <p:cNvSpPr>
            <a:spLocks noGrp="1"/>
          </p:cNvSpPr>
          <p:nvPr>
            <p:ph type="dt" idx="18"/>
          </p:nvPr>
        </p:nvSpPr>
        <p:spPr>
          <a:xfrm>
            <a:off x="355680" y="645300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2" name="PlaceHolder 4"/>
          <p:cNvSpPr>
            <a:spLocks noGrp="1"/>
          </p:cNvSpPr>
          <p:nvPr>
            <p:ph type="ftr" idx="19"/>
          </p:nvPr>
        </p:nvSpPr>
        <p:spPr>
          <a:xfrm>
            <a:off x="3124080" y="6434280"/>
            <a:ext cx="319104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3" name="PlaceHolder 5"/>
          <p:cNvSpPr>
            <a:spLocks noGrp="1"/>
          </p:cNvSpPr>
          <p:nvPr>
            <p:ph type="sldNum" idx="20"/>
          </p:nvPr>
        </p:nvSpPr>
        <p:spPr>
          <a:xfrm>
            <a:off x="6641640" y="645300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5BE9-CBEE-4D06-8453-7829BE3F4761}"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6629400" y="6416640"/>
            <a:ext cx="1136520" cy="281160"/>
          </a:xfrm>
          <a:prstGeom prst="rect">
            <a:avLst/>
          </a:prstGeom>
          <a:ln w="0">
            <a:noFill/>
          </a:ln>
        </p:spPr>
      </p:pic>
      <p:sp>
        <p:nvSpPr>
          <p:cNvPr id="30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4" name="PlaceHolder 3"/>
          <p:cNvSpPr>
            <a:spLocks noGrp="1"/>
          </p:cNvSpPr>
          <p:nvPr>
            <p:ph type="dt" idx="21"/>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5" name="PlaceHolder 4"/>
          <p:cNvSpPr>
            <a:spLocks noGrp="1"/>
          </p:cNvSpPr>
          <p:nvPr>
            <p:ph type="ftr" idx="22"/>
          </p:nvPr>
        </p:nvSpPr>
        <p:spPr>
          <a:xfrm>
            <a:off x="2819160" y="6448320"/>
            <a:ext cx="342900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6" name="PlaceHolder 5"/>
          <p:cNvSpPr>
            <a:spLocks noGrp="1"/>
          </p:cNvSpPr>
          <p:nvPr>
            <p:ph type="sldNum" idx="23"/>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B0D8-0374-4F7A-9578-F4260D475F9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6629400" y="6418440"/>
            <a:ext cx="1136520" cy="280800"/>
          </a:xfrm>
          <a:prstGeom prst="rect">
            <a:avLst/>
          </a:prstGeom>
          <a:ln w="0">
            <a:noFill/>
          </a:ln>
        </p:spPr>
      </p:pic>
      <p:sp>
        <p:nvSpPr>
          <p:cNvPr id="3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6"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4"/>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48" name="PlaceHolder 4"/>
          <p:cNvSpPr>
            <a:spLocks noGrp="1"/>
          </p:cNvSpPr>
          <p:nvPr>
            <p:ph type="ftr" idx="25"/>
          </p:nvPr>
        </p:nvSpPr>
        <p:spPr>
          <a:xfrm>
            <a:off x="2666880" y="6476760"/>
            <a:ext cx="3810240" cy="174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49" name="PlaceHolder 5"/>
          <p:cNvSpPr>
            <a:spLocks noGrp="1"/>
          </p:cNvSpPr>
          <p:nvPr>
            <p:ph type="sldNum" idx="26"/>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4581-4D99-4BEB-BE9E-B7AE3D6FC3B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0"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 Decoder Driver Demo</a:t>
            </a:r>
            <a:endParaRPr b="1" lang="en-US" sz="4000" spc="-1" strike="noStrike">
              <a:solidFill>
                <a:srgbClr val="ffffff"/>
              </a:solidFill>
              <a:latin typeface="Arial"/>
            </a:endParaRPr>
          </a:p>
        </p:txBody>
      </p:sp>
      <p:sp>
        <p:nvSpPr>
          <p:cNvPr id="430"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3, 2009</a:t>
            </a: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1E94CE59-8BA0-4384-88A7-8829CC066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53" name=""/>
          <p:cNvGraphicFramePr/>
          <p:nvPr/>
        </p:nvGraphicFramePr>
        <p:xfrm>
          <a:off x="762120" y="995400"/>
          <a:ext cx="7564320" cy="5253120"/>
        </p:xfrm>
        <a:graphic>
          <a:graphicData uri="http://schemas.openxmlformats.org/presentationml/2006/ole">
            <p:oleObj r:id="rId1" spid="">
              <p:embed/>
              <p:pic>
                <p:nvPicPr>
                  <p:cNvPr id="454" name="" descr=""/>
                  <p:cNvPicPr/>
                  <p:nvPr/>
                </p:nvPicPr>
                <p:blipFill>
                  <a:blip r:embed="rId2"/>
                  <a:stretch/>
                </p:blipFill>
                <p:spPr>
                  <a:xfrm>
                    <a:off x="762120" y="995400"/>
                    <a:ext cx="7564320" cy="5253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9984E727-A9E3-4CAB-A8DC-4D6C81153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01F47BFE-4E6E-4B36-BC09-15DC93374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59"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70C31BBA-54CA-41A9-9D27-843E02677C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1"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16CE2F5D-0B46-4454-AC4C-02AFC3DD87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3"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97739350-3B2B-4ED6-B5E1-4C4EEBC6D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5"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6F83E0EB-CFF6-4909-90F5-2CCC32C0E32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Overview</a:t>
            </a:r>
            <a:endParaRPr b="1" lang="en-US" sz="3600" spc="-1" strike="noStrike">
              <a:solidFill>
                <a:srgbClr val="ff0000"/>
              </a:solidFill>
              <a:latin typeface="Arial"/>
            </a:endParaRPr>
          </a:p>
        </p:txBody>
      </p:sp>
      <p:sp>
        <p:nvSpPr>
          <p:cNvPr id="432"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the TCP3 Decoder dri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Maximum throughput from the deco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idle times of the TCP3 decoder eng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CPU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look at the design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in dem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est cases running back to back – each test case represents one frame of code blo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lso show the measured throughput values using the current Nyquist simulat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C31ABA05-E110-4E28-B92D-67880F27B2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4"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Buffer Mode (LTE, WIMA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dependent input memory sets are used for input transfers, but the decoding will happen only after reading the previous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with one input data memory s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Mode (HSUPA+, WCD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put and output memory sets are used independent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independently to operate with two independent memory s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32AC46C0-1B3C-4380-866D-BDDBE688F4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36" name=""/>
          <p:cNvGraphicFramePr/>
          <p:nvPr/>
        </p:nvGraphicFramePr>
        <p:xfrm>
          <a:off x="304920" y="2895480"/>
          <a:ext cx="8534160" cy="3351240"/>
        </p:xfrm>
        <a:graphic>
          <a:graphicData uri="http://schemas.openxmlformats.org/presentationml/2006/ole">
            <p:oleObj r:id="rId1" spid="">
              <p:embed/>
              <p:pic>
                <p:nvPicPr>
                  <p:cNvPr id="437"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38"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76000CC2-7ED1-408A-9847-0A091E545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360"/>
            <a:ext cx="8915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3 code blocks</a:t>
            </a:r>
            <a:endParaRPr b="1" lang="en-US" sz="3600" spc="-1" strike="noStrike">
              <a:solidFill>
                <a:srgbClr val="ff0000"/>
              </a:solidFill>
              <a:latin typeface="Arial"/>
            </a:endParaRPr>
          </a:p>
        </p:txBody>
      </p:sp>
      <p:graphicFrame>
        <p:nvGraphicFramePr>
          <p:cNvPr id="440" name=""/>
          <p:cNvGraphicFramePr/>
          <p:nvPr/>
        </p:nvGraphicFramePr>
        <p:xfrm>
          <a:off x="152280" y="1943280"/>
          <a:ext cx="8839440" cy="3466800"/>
        </p:xfrm>
        <a:graphic>
          <a:graphicData uri="http://schemas.openxmlformats.org/presentationml/2006/ole">
            <p:oleObj r:id="rId1" spid="">
              <p:embed/>
              <p:pic>
                <p:nvPicPr>
                  <p:cNvPr id="441" name="" descr=""/>
                  <p:cNvPicPr/>
                  <p:nvPr/>
                </p:nvPicPr>
                <p:blipFill>
                  <a:blip r:embed="rId2"/>
                  <a:stretch/>
                </p:blipFill>
                <p:spPr>
                  <a:xfrm>
                    <a:off x="152280" y="1943280"/>
                    <a:ext cx="8839440" cy="3466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CA84E4DD-4D8E-4A46-B48A-D4CDE704C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sk Flow Example</a:t>
            </a:r>
            <a:endParaRPr b="1" lang="en-US" sz="3600" spc="-1" strike="noStrike">
              <a:solidFill>
                <a:srgbClr val="ff0000"/>
              </a:solidFill>
              <a:latin typeface="Arial"/>
            </a:endParaRPr>
          </a:p>
        </p:txBody>
      </p:sp>
      <p:graphicFrame>
        <p:nvGraphicFramePr>
          <p:cNvPr id="443" name=""/>
          <p:cNvGraphicFramePr/>
          <p:nvPr/>
        </p:nvGraphicFramePr>
        <p:xfrm>
          <a:off x="550800" y="1566720"/>
          <a:ext cx="8032680" cy="3927600"/>
        </p:xfrm>
        <a:graphic>
          <a:graphicData uri="http://schemas.openxmlformats.org/presentationml/2006/ole">
            <p:oleObj r:id="rId1" spid="">
              <p:embed/>
              <p:pic>
                <p:nvPicPr>
                  <p:cNvPr id="444" name="" descr=""/>
                  <p:cNvPicPr/>
                  <p:nvPr/>
                </p:nvPicPr>
                <p:blipFill>
                  <a:blip r:embed="rId2"/>
                  <a:stretch/>
                </p:blipFill>
                <p:spPr>
                  <a:xfrm>
                    <a:off x="550800" y="1566720"/>
                    <a:ext cx="8032680" cy="39276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F433F5DC-1902-4E65-B2D9-13DBAC5EF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Details</a:t>
            </a:r>
            <a:endParaRPr b="1" lang="en-US" sz="3600" spc="-1" strike="noStrike">
              <a:solidFill>
                <a:srgbClr val="ff0000"/>
              </a:solidFill>
              <a:latin typeface="Arial"/>
            </a:endParaRPr>
          </a:p>
        </p:txBody>
      </p:sp>
      <p:sp>
        <p:nvSpPr>
          <p:cNvPr id="446" name="PlaceHolder 2"/>
          <p:cNvSpPr>
            <a:spLocks noGrp="1"/>
          </p:cNvSpPr>
          <p:nvPr>
            <p:ph/>
          </p:nvPr>
        </p:nvSpPr>
        <p:spPr>
          <a:xfrm>
            <a:off x="333360" y="990360"/>
            <a:ext cx="846792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etup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enerated test vector files used with specified configurat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and De-initialization are done at the begin and end of each test cas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task used for enqueue code block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task wakes up on complete interrupt to verify the decoded bit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st case is like a sub-frame of code block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0</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MAX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code blocks (each around ~4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1</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around ~11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32</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2 (takes time for reading test vectors)</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has 6144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E1DA0B6C-5A81-413C-A59C-F7C298A01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a:t>
            </a:r>
            <a:endParaRPr b="1" lang="en-US" sz="4000" spc="-1" strike="noStrike">
              <a:solidFill>
                <a:srgbClr val="000000"/>
              </a:solidFill>
              <a:latin typeface="Arial"/>
            </a:endParaRPr>
          </a:p>
        </p:txBody>
      </p:sp>
      <p:sp>
        <p:nvSpPr>
          <p:cNvPr id="448" name="PlaceHolder 2"/>
          <p:cNvSpPr>
            <a:spLocks noGrp="1"/>
          </p:cNvSpPr>
          <p:nvPr>
            <p:ph/>
          </p:nvPr>
        </p:nvSpPr>
        <p:spPr>
          <a:xfrm>
            <a:off x="342720" y="3657240"/>
            <a:ext cx="84582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0"/>
          </p:nvPr>
        </p:nvSpPr>
        <p:spPr/>
        <p:txBody>
          <a:bodyPr/>
          <a:p>
            <a:r>
              <a:t>TI – Proprietary Information. Provided Under NDA</a:t>
            </a:r>
          </a:p>
        </p:txBody>
      </p:sp>
      <p:sp>
        <p:nvSpPr>
          <p:cNvPr id="5" name="PlaceHolder 4"/>
          <p:cNvSpPr>
            <a:spLocks noGrp="1"/>
          </p:cNvSpPr>
          <p:nvPr>
            <p:ph type="sldNum" idx="11"/>
          </p:nvPr>
        </p:nvSpPr>
        <p:spPr/>
        <p:txBody>
          <a:bodyPr/>
          <a:p>
            <a:fld id="{7AA15F28-608A-4CFC-905D-0DEEDF1EB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0" name=""/>
          <p:cNvGraphicFramePr/>
          <p:nvPr/>
        </p:nvGraphicFramePr>
        <p:xfrm>
          <a:off x="152280" y="914400"/>
          <a:ext cx="8763120" cy="5334120"/>
        </p:xfrm>
        <a:graphic>
          <a:graphicData uri="http://schemas.openxmlformats.org/presentationml/2006/ole">
            <p:oleObj r:id="rId1" spid="">
              <p:embed/>
              <p:pic>
                <p:nvPicPr>
                  <p:cNvPr id="451" name="" descr=""/>
                  <p:cNvPicPr/>
                  <p:nvPr/>
                </p:nvPicPr>
                <p:blipFill>
                  <a:blip r:embed="rId2"/>
                  <a:stretch/>
                </p:blipFill>
                <p:spPr>
                  <a:xfrm>
                    <a:off x="152280" y="914400"/>
                    <a:ext cx="8763120" cy="5334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8B4248E1-ED12-42D5-88FA-CC1A238BD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09-04T12:38:28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