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1.wmf" ContentType="image/x-wmf"/>
  <Override PartName="/ppt/media/image14.wmf" ContentType="image/x-wmf"/>
  <Override PartName="/ppt/media/image5.jpeg" ContentType="image/jpeg"/>
  <Override PartName="/ppt/media/image9.wmf" ContentType="image/x-wmf"/>
  <Override PartName="/ppt/media/image15.wmf" ContentType="image/x-wmf"/>
  <Override PartName="/ppt/media/image1.jpeg" ContentType="image/jpeg"/>
  <Override PartName="/ppt/media/image2.jpeg" ContentType="image/jpeg"/>
  <Override PartName="/ppt/media/image3.jpeg" ContentType="image/jpeg"/>
  <Override PartName="/ppt/media/image6.jpeg" ContentType="image/jpeg"/>
  <Override PartName="/ppt/media/image7.wmf" ContentType="image/x-wmf"/>
  <Override PartName="/ppt/media/image12.wmf" ContentType="image/x-wmf"/>
  <Override PartName="/ppt/media/image8.wmf" ContentType="image/x-wmf"/>
  <Override PartName="/ppt/media/image13.wmf" ContentType="image/x-wmf"/>
  <Override PartName="/ppt/media/image10.wmf" ContentType="image/x-wmf"/>
  <Override PartName="/ppt/media/image4.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D2533-C59A-4BD2-AFB4-76BE075DAD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0"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AAC26-64FC-4BD4-85BA-509F9FBED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58"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0A88DA-9432-48B8-9984-F463D89896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5D4C57-E521-41E3-960F-D5668FA99B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E7CD2B-4AED-4F49-88E4-A49578B0B1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63"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DD7EEF-E7F7-4D10-9609-2FDC864D63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67"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4467EA-0226-4928-B858-B75B94E94C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71"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21A527-F45F-4690-8EBB-24FDC07EF9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75"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36B444-AA36-4D99-B5BF-083371F1BD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78"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E0508F6-0105-44B2-8EDE-2883362CE9C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83"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7"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8A565C-95F9-4E47-BAB7-0C2796A7FAD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3CBE11D-391E-41F6-8F49-1F438B5A7B3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3"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39998A-D487-4213-BD98-ACCA7451C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96"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5F721BA-308F-47CF-A8F8-E849DB2330E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98"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C0EB84C-1B29-48C4-B985-4D2D36A9316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400"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E93360C-8E7B-443B-83A9-2570884DD7F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8351C49-C051-4467-BE48-C89C553272D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208507E-8CF0-4B34-B568-9142AFDF10B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405"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BB05EEC-FB84-46E1-9D82-B8E571E3C5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409"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54CEC2-AD95-4B90-9F7E-68D9E3F1CD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413"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AA04DD-A476-4CFD-AB47-C8D2DDDDAED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417"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A5E297D-E86B-4D79-9D65-7C9316EE36C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420"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6EB648A-57A6-4492-AD9A-0F31652053C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8"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9CFD1-E780-4BE9-A66B-8C3732D63A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425"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93519D3-E406-48B9-9309-92BBC46C189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5723DE-1C81-4318-9DCE-A91D927282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3"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4C938E-A6C2-424B-827D-1E51B7D14F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5"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326E62-E6A3-407A-96C5-4B0966C538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7"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596415-4B6E-4659-81AB-0DE60D93F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5BAF16-40BF-4DB6-852A-CFAFAF8166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80C7B-B5CA-4877-9F6F-0422537EF5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2"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75A52-21CB-4475-855C-C17456AA3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9"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34218-771D-4590-92FD-B2F61730B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6"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86024-F30D-4C5F-9396-BB76825A7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70"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6874C-A539-4DB7-A8A3-90DABFA1A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74"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929C34-03AE-427D-AA18-7EFEDDC036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77"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0C3772-9D0C-40E9-91DB-E459E119D9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82"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5C494B-BFA6-4693-8C2D-3297531DE7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F6FA8B-7992-4ED8-803E-04DEC95D21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96"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17D537-4DF0-49C1-B198-659EED96C5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98"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1E3495-7179-45D2-987E-8B84763D8B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00"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6AC7C7-6A3D-4F6B-81F8-40B6609CDA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8B3942-A9C7-4D54-9EF3-0566498228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1"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0D514-39DA-4944-83F0-28F713D68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EFDDC9-4CAB-4636-BC01-01ABACA799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05"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932461-8A31-465A-A137-10FF8CF366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09"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4A6F81-A71F-48A8-9928-955CC64FAE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13"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28D859-54D2-418F-A89D-DEED39E093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17"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633724-FDDF-4E0C-A0FE-6C47EE6C2D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20"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82F333-132B-4FD7-9BD3-A5E9EF8C6C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25"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795F5B-76B5-4AD0-892E-686CA66D49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652251-4BEC-452F-A7AA-C9E3A66B26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39"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D1182B-9038-4EBD-B24A-B5D61B892F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41"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66E161-9218-4232-9C28-9BD2F0FF83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3"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49A71-52C2-4806-AA90-3C92F7C2F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43"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A2E2C9-227A-4008-9525-4673D8CB7C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1F449A-6E9F-4EFD-A558-A2A58D80FF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7F42A0-F752-4A31-BBDD-F03FE0230F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48"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E42F77-03E4-40E1-AB16-F3F1B3138A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52"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BA5229-9352-40E3-8CC0-FB319D5C1D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56"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48AF98-855A-4D08-8DC7-DA3C198E96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60"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783874-2424-4630-B62F-D80F5459D7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63"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5627E7-A99B-4FC9-BD95-03C281A71C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68"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D9D25B-49B0-49C3-B3A3-683A93DB8B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99AEC3-12DD-4548-B834-D513F31BB2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E984E-4307-4372-8E30-0C4887406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82"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21F049-FC6F-41C6-897B-D91D2F2ED5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84"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0E331C-D4C9-41FB-B914-6829546629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86"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E1D120-AED5-446A-B754-6DBFCD78D2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B26281-7F9A-4848-8F29-2D0BB189E6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E0132A-1938-41C0-91D6-B05DB2A077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91"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4DFC38-C663-47D8-B7DF-ED0F76A626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95"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84E65E-F58A-4B63-93A7-2D5DB0FAF0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99"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3DDAC9-D228-4706-8CAC-58D499DBBB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03"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8B6717-EFC7-4ACF-9B10-19D32663DC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06"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88272D-2238-4D9E-BB3D-1F446CF75A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101E2-3CE9-4A0A-BD9C-273A61881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11"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DA1803-EF8E-4C48-BB91-7CB3DE02A5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95792B-989C-4E44-9DD4-16F756A489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25"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636ACC-FA35-48E0-A363-3752D52AF4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27"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62457C-F13C-4614-AE9A-016FF71882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29"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98F8E6-201F-4607-B2C8-C8E650ADEE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60B0A9-8CCE-44AE-9507-4005AE8E45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854DDB-497D-42DA-B15E-D9B609952B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34"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87DCD7-8288-4DDA-8749-E21F9FD61C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38"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E362AE-A2BA-4A5D-83B2-BFA43553AF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42"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019286-8C3D-4FC8-B422-661C112413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8"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933CB-BCC4-410A-8E4F-68B085951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46"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5B0E58-EA28-4107-917F-7221EC13A6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49"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F12CC6-EBD1-4315-9540-CD2C20435D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54"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BC9B1C-8DB7-49B6-8C06-1639FE37BA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0744BB6-23DA-4034-B7CB-6BCD78BAE45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68"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70AB5D-D929-402E-A529-4885461006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70"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DFB34C-91B3-4482-82A1-C3096B8754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72"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1D4F52-D154-4B30-8A95-3619EDF120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3261BA-BF89-497E-981F-A4B854935E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C9C240-61A0-435A-A333-588D05FC08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77"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F31693-6931-459A-AEBF-8298050BB0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2"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FC93C-7D40-4D9D-8D3A-5693F6A1E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81"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FAFB23-D098-4618-AE0A-020D93583E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85"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778F1C-F047-4AAB-8C85-221AF4AAEB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89"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C25D70-D821-422D-9C70-9B4C040E96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92"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6FAC96-4EAE-46F0-A94B-944B5E7201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97"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8FDF71-0DDF-4DAD-AC84-A23AD026DE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77E365-414D-45F7-A838-DA20B1B47A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11"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79E029-5EF3-487C-8D2F-0AE0CF179B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13"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ED6FF4-5525-4776-910A-7091A90AC9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15"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385BFE-F51E-4E12-B40B-B03C8A8CAC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993044-161C-4651-A583-FD90CBE11E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6"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8FF4D-1B89-47B9-BA1B-55C3D8C3A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endParaRPr b="0" lang="en-US" sz="2800" spc="-1" strike="noStrike">
              <a:solidFill>
                <a:srgbClr val="ff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F6E2EA-0BD2-42C9-9D21-8E0522E939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20"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884D59-3FB8-4813-8589-6DA435EE2A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24"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D1AB2A-D842-4394-8397-2FD2C90E15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28"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ADA29C-32DD-403F-8928-452B09A91C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32"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A20A83-585F-4D33-9BCA-75708049FD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35"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82FF0C1-5C5B-41B5-9C65-F224D0C8DC0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40"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761ED94-259B-4269-9C34-D7309CC43D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03555F-9D64-4E43-91CD-9C16546853E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54"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C6794C-0B78-4BFB-A8E7-F180EF6F96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56"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3DB5D0-C1C5-4BAD-8CCE-1AE0AA6B001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6629400" y="6418440"/>
            <a:ext cx="1136520" cy="280800"/>
          </a:xfrm>
          <a:prstGeom prst="rect">
            <a:avLst/>
          </a:prstGeom>
          <a:ln w="0">
            <a:noFill/>
          </a:ln>
        </p:spPr>
      </p:pic>
      <p:sp>
        <p:nvSpPr>
          <p:cNvPr id="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lick to edit the title text format</a:t>
            </a:r>
            <a:endParaRPr b="1" lang="en-US" sz="3600" spc="-1" strike="noStrike">
              <a:solidFill>
                <a:srgbClr val="ff0000"/>
              </a:solidFill>
              <a:latin typeface="Arial"/>
            </a:endParaRPr>
          </a:p>
        </p:txBody>
      </p:sp>
      <p:sp>
        <p:nvSpPr>
          <p:cNvPr id="2" name="PlaceHolder 2"/>
          <p:cNvSpPr>
            <a:spLocks noGrp="1"/>
          </p:cNvSpPr>
          <p:nvPr>
            <p:ph type="body"/>
          </p:nvPr>
        </p:nvSpPr>
        <p:spPr>
          <a:xfrm>
            <a:off x="333360" y="1185480"/>
            <a:ext cx="8467920" cy="4692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355680" y="603864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4" name="PlaceHolder 4"/>
          <p:cNvSpPr>
            <a:spLocks noGrp="1"/>
          </p:cNvSpPr>
          <p:nvPr>
            <p:ph type="ftr" idx="2"/>
          </p:nvPr>
        </p:nvSpPr>
        <p:spPr>
          <a:xfrm>
            <a:off x="3114360" y="6038640"/>
            <a:ext cx="2895480" cy="20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5" name="PlaceHolder 5"/>
          <p:cNvSpPr>
            <a:spLocks noGrp="1"/>
          </p:cNvSpPr>
          <p:nvPr>
            <p:ph type="sldNum" idx="3"/>
          </p:nvPr>
        </p:nvSpPr>
        <p:spPr>
          <a:xfrm>
            <a:off x="6641640" y="603864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42428-37A8-4BCE-9F53-848343F51C0F}"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 name=""/>
          <p:cNvSpPr/>
          <p:nvPr/>
        </p:nvSpPr>
        <p:spPr>
          <a:xfrm>
            <a:off x="338040" y="6330960"/>
            <a:ext cx="8463240" cy="461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3310200" y="15840"/>
            <a:ext cx="227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 Confidential Information</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389" name="" descr=""/>
          <p:cNvPicPr/>
          <p:nvPr/>
        </p:nvPicPr>
        <p:blipFill>
          <a:blip r:embed="rId2"/>
          <a:stretch/>
        </p:blipFill>
        <p:spPr>
          <a:xfrm>
            <a:off x="6629400" y="6418440"/>
            <a:ext cx="1136520" cy="280800"/>
          </a:xfrm>
          <a:prstGeom prst="rect">
            <a:avLst/>
          </a:prstGeom>
          <a:ln w="0">
            <a:noFill/>
          </a:ln>
        </p:spPr>
      </p:pic>
      <p:sp>
        <p:nvSpPr>
          <p:cNvPr id="390" name="PlaceHolder 1"/>
          <p:cNvSpPr>
            <a:spLocks noGrp="1"/>
          </p:cNvSpPr>
          <p:nvPr>
            <p:ph type="title"/>
          </p:nvPr>
        </p:nvSpPr>
        <p:spPr>
          <a:xfrm>
            <a:off x="342720" y="1942920"/>
            <a:ext cx="84582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391" name="PlaceHolder 2"/>
          <p:cNvSpPr>
            <a:spLocks noGrp="1"/>
          </p:cNvSpPr>
          <p:nvPr>
            <p:ph type="dt" idx="28"/>
          </p:nvPr>
        </p:nvSpPr>
        <p:spPr>
          <a:xfrm>
            <a:off x="355680" y="603864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392" name="PlaceHolder 3"/>
          <p:cNvSpPr>
            <a:spLocks noGrp="1"/>
          </p:cNvSpPr>
          <p:nvPr>
            <p:ph type="ftr" idx="29"/>
          </p:nvPr>
        </p:nvSpPr>
        <p:spPr>
          <a:xfrm>
            <a:off x="3114360" y="6038640"/>
            <a:ext cx="2895480" cy="20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393" name="PlaceHolder 4"/>
          <p:cNvSpPr>
            <a:spLocks noGrp="1"/>
          </p:cNvSpPr>
          <p:nvPr>
            <p:ph type="sldNum" idx="30"/>
          </p:nvPr>
        </p:nvSpPr>
        <p:spPr>
          <a:xfrm>
            <a:off x="6641640" y="603864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B6647-A1B8-486E-9DF8-2D1EB0B40A60}"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94"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6629400" y="6418440"/>
            <a:ext cx="1136520" cy="280800"/>
          </a:xfrm>
          <a:prstGeom prst="rect">
            <a:avLst/>
          </a:prstGeom>
          <a:ln w="0">
            <a:noFill/>
          </a:ln>
        </p:spPr>
      </p:pic>
      <p:sp>
        <p:nvSpPr>
          <p:cNvPr id="45" name="PlaceHolder 1"/>
          <p:cNvSpPr>
            <a:spLocks noGrp="1"/>
          </p:cNvSpPr>
          <p:nvPr>
            <p:ph type="title"/>
          </p:nvPr>
        </p:nvSpPr>
        <p:spPr>
          <a:xfrm>
            <a:off x="342720" y="1942920"/>
            <a:ext cx="84582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6" name="PlaceHolder 2"/>
          <p:cNvSpPr>
            <a:spLocks noGrp="1"/>
          </p:cNvSpPr>
          <p:nvPr>
            <p:ph type="dt" idx="4"/>
          </p:nvPr>
        </p:nvSpPr>
        <p:spPr>
          <a:xfrm>
            <a:off x="355680" y="603864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47" name="PlaceHolder 3"/>
          <p:cNvSpPr>
            <a:spLocks noGrp="1"/>
          </p:cNvSpPr>
          <p:nvPr>
            <p:ph type="ftr" idx="5"/>
          </p:nvPr>
        </p:nvSpPr>
        <p:spPr>
          <a:xfrm>
            <a:off x="3114360" y="6038640"/>
            <a:ext cx="2895480" cy="20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48" name="PlaceHolder 4"/>
          <p:cNvSpPr>
            <a:spLocks noGrp="1"/>
          </p:cNvSpPr>
          <p:nvPr>
            <p:ph type="sldNum" idx="6"/>
          </p:nvPr>
        </p:nvSpPr>
        <p:spPr>
          <a:xfrm>
            <a:off x="6641640" y="603864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527F1-E797-4146-A04A-AE78CA3FA31D}"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9"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838960" y="5904000"/>
            <a:ext cx="332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xas Instruments Confidential</a:t>
            </a:r>
            <a:endParaRPr b="0" lang="en-US" sz="1800" spc="-1" strike="noStrike">
              <a:solidFill>
                <a:srgbClr val="000000"/>
              </a:solidFill>
              <a:latin typeface="Arial"/>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6629400" y="6418440"/>
            <a:ext cx="1136520" cy="280800"/>
          </a:xfrm>
          <a:prstGeom prst="rect">
            <a:avLst/>
          </a:prstGeom>
          <a:ln w="0">
            <a:noFill/>
          </a:ln>
        </p:spPr>
      </p:pic>
      <p:sp>
        <p:nvSpPr>
          <p:cNvPr id="89"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90" name="PlaceHolder 2"/>
          <p:cNvSpPr>
            <a:spLocks noGrp="1"/>
          </p:cNvSpPr>
          <p:nvPr>
            <p:ph type="body"/>
          </p:nvPr>
        </p:nvSpPr>
        <p:spPr>
          <a:xfrm>
            <a:off x="342720" y="3657240"/>
            <a:ext cx="8458200" cy="1600200"/>
          </a:xfrm>
          <a:prstGeom prst="rect">
            <a:avLst/>
          </a:prstGeom>
          <a:noFill/>
          <a:ln w="0">
            <a:noFill/>
          </a:ln>
        </p:spPr>
        <p:txBody>
          <a:bodyPr lIns="90000" rIns="90000" tIns="46800" bIns="46800" anchor="t">
            <a:normAutofit fontScale="43000"/>
          </a:bodyPr>
          <a:p>
            <a:pPr marL="147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47240" indent="-14724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47240" indent="-14724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91" name="PlaceHolder 3"/>
          <p:cNvSpPr>
            <a:spLocks noGrp="1"/>
          </p:cNvSpPr>
          <p:nvPr>
            <p:ph type="dt" idx="7"/>
          </p:nvPr>
        </p:nvSpPr>
        <p:spPr>
          <a:xfrm>
            <a:off x="355680" y="603864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date/time&gt;</a:t>
            </a:r>
            <a:endParaRPr b="0" lang="en-US" sz="800" spc="-1" strike="noStrike">
              <a:solidFill>
                <a:srgbClr val="ffffff"/>
              </a:solidFill>
              <a:latin typeface="Times New Roman"/>
            </a:endParaRPr>
          </a:p>
        </p:txBody>
      </p:sp>
      <p:sp>
        <p:nvSpPr>
          <p:cNvPr id="92" name="PlaceHolder 4"/>
          <p:cNvSpPr>
            <a:spLocks noGrp="1"/>
          </p:cNvSpPr>
          <p:nvPr>
            <p:ph type="ftr" idx="8"/>
          </p:nvPr>
        </p:nvSpPr>
        <p:spPr>
          <a:xfrm>
            <a:off x="3114360" y="6038640"/>
            <a:ext cx="2895480" cy="20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footer&gt;</a:t>
            </a:r>
            <a:endParaRPr b="0" lang="en-US" sz="800" spc="-1" strike="noStrike">
              <a:solidFill>
                <a:srgbClr val="ffffff"/>
              </a:solidFill>
              <a:latin typeface="Times New Roman"/>
            </a:endParaRPr>
          </a:p>
        </p:txBody>
      </p:sp>
      <p:sp>
        <p:nvSpPr>
          <p:cNvPr id="93" name="PlaceHolder 5"/>
          <p:cNvSpPr>
            <a:spLocks noGrp="1"/>
          </p:cNvSpPr>
          <p:nvPr>
            <p:ph type="sldNum" idx="9"/>
          </p:nvPr>
        </p:nvSpPr>
        <p:spPr>
          <a:xfrm>
            <a:off x="6641640" y="603864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D0F28-8989-4484-A640-F6DD98BEA832}"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
        <p:nvSpPr>
          <p:cNvPr id="94"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aaaa"/>
        </a:solidFill>
      </p:bgPr>
    </p:bg>
    <p:spTree>
      <p:nvGrpSpPr>
        <p:cNvPr id="1" name=""/>
        <p:cNvGrpSpPr/>
        <p:nvPr/>
      </p:nvGrpSpPr>
      <p:grpSpPr>
        <a:xfrm>
          <a:off x="0" y="0"/>
          <a:ext cx="0" cy="0"/>
          <a:chOff x="0" y="0"/>
          <a:chExt cx="0" cy="0"/>
        </a:xfrm>
      </p:grpSpPr>
      <p:pic>
        <p:nvPicPr>
          <p:cNvPr id="131" name="" descr=""/>
          <p:cNvPicPr/>
          <p:nvPr/>
        </p:nvPicPr>
        <p:blipFill>
          <a:blip r:embed="rId2"/>
          <a:stretch/>
        </p:blipFill>
        <p:spPr>
          <a:xfrm>
            <a:off x="6629400" y="6416640"/>
            <a:ext cx="1136520" cy="281160"/>
          </a:xfrm>
          <a:prstGeom prst="rect">
            <a:avLst/>
          </a:prstGeom>
          <a:ln w="0">
            <a:noFill/>
          </a:ln>
        </p:spPr>
      </p:pic>
      <p:sp>
        <p:nvSpPr>
          <p:cNvPr id="132"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33" name="PlaceHolder 2"/>
          <p:cNvSpPr>
            <a:spLocks noGrp="1"/>
          </p:cNvSpPr>
          <p:nvPr>
            <p:ph type="body"/>
          </p:nvPr>
        </p:nvSpPr>
        <p:spPr>
          <a:xfrm>
            <a:off x="342720" y="3657240"/>
            <a:ext cx="8458200" cy="1600200"/>
          </a:xfrm>
          <a:prstGeom prst="rect">
            <a:avLst/>
          </a:prstGeom>
          <a:noFill/>
          <a:ln w="0">
            <a:noFill/>
          </a:ln>
        </p:spPr>
        <p:txBody>
          <a:bodyPr lIns="90000" rIns="90000" tIns="46800" bIns="46800" anchor="t">
            <a:normAutofit fontScale="43000"/>
          </a:bodyPr>
          <a:p>
            <a:pPr marL="147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34" name="PlaceHolder 3"/>
          <p:cNvSpPr>
            <a:spLocks noGrp="1"/>
          </p:cNvSpPr>
          <p:nvPr>
            <p:ph type="dt" idx="10"/>
          </p:nvPr>
        </p:nvSpPr>
        <p:spPr>
          <a:xfrm>
            <a:off x="355680" y="603864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135" name="PlaceHolder 4"/>
          <p:cNvSpPr>
            <a:spLocks noGrp="1"/>
          </p:cNvSpPr>
          <p:nvPr>
            <p:ph type="ftr" idx="11"/>
          </p:nvPr>
        </p:nvSpPr>
        <p:spPr>
          <a:xfrm>
            <a:off x="3114360" y="6038640"/>
            <a:ext cx="2895480" cy="20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136" name="PlaceHolder 5"/>
          <p:cNvSpPr>
            <a:spLocks noGrp="1"/>
          </p:cNvSpPr>
          <p:nvPr>
            <p:ph type="sldNum" idx="12"/>
          </p:nvPr>
        </p:nvSpPr>
        <p:spPr>
          <a:xfrm>
            <a:off x="6641640" y="603864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8DC8E-5700-46F4-943C-086428716A37}"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37"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4" name="" descr=""/>
          <p:cNvPicPr/>
          <p:nvPr/>
        </p:nvPicPr>
        <p:blipFill>
          <a:blip r:embed="rId2"/>
          <a:stretch/>
        </p:blipFill>
        <p:spPr>
          <a:xfrm>
            <a:off x="6629400" y="6418440"/>
            <a:ext cx="1136520" cy="280800"/>
          </a:xfrm>
          <a:prstGeom prst="rect">
            <a:avLst/>
          </a:prstGeom>
          <a:ln w="0">
            <a:noFill/>
          </a:ln>
        </p:spPr>
      </p:pic>
      <p:sp>
        <p:nvSpPr>
          <p:cNvPr id="175"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176" name="PlaceHolder 2"/>
          <p:cNvSpPr>
            <a:spLocks noGrp="1"/>
          </p:cNvSpPr>
          <p:nvPr>
            <p:ph type="body"/>
          </p:nvPr>
        </p:nvSpPr>
        <p:spPr>
          <a:xfrm>
            <a:off x="342720" y="3657240"/>
            <a:ext cx="8458200" cy="1600200"/>
          </a:xfrm>
          <a:prstGeom prst="rect">
            <a:avLst/>
          </a:prstGeom>
          <a:noFill/>
          <a:ln w="0">
            <a:noFill/>
          </a:ln>
        </p:spPr>
        <p:txBody>
          <a:bodyPr lIns="90000" rIns="90000" tIns="46800" bIns="46800" anchor="t">
            <a:normAutofit fontScale="43000"/>
          </a:bodyPr>
          <a:p>
            <a:pPr marL="147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47240" indent="-14724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47240" indent="-14724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77" name="PlaceHolder 3"/>
          <p:cNvSpPr>
            <a:spLocks noGrp="1"/>
          </p:cNvSpPr>
          <p:nvPr>
            <p:ph type="dt" idx="13"/>
          </p:nvPr>
        </p:nvSpPr>
        <p:spPr>
          <a:xfrm>
            <a:off x="355680" y="603864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date/time&gt;</a:t>
            </a:r>
            <a:endParaRPr b="0" lang="en-US" sz="800" spc="-1" strike="noStrike">
              <a:solidFill>
                <a:srgbClr val="ffffff"/>
              </a:solidFill>
              <a:latin typeface="Times New Roman"/>
            </a:endParaRPr>
          </a:p>
        </p:txBody>
      </p:sp>
      <p:sp>
        <p:nvSpPr>
          <p:cNvPr id="178" name="PlaceHolder 4"/>
          <p:cNvSpPr>
            <a:spLocks noGrp="1"/>
          </p:cNvSpPr>
          <p:nvPr>
            <p:ph type="ftr" idx="14"/>
          </p:nvPr>
        </p:nvSpPr>
        <p:spPr>
          <a:xfrm>
            <a:off x="3114360" y="6038640"/>
            <a:ext cx="2895480" cy="20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footer&gt;</a:t>
            </a:r>
            <a:endParaRPr b="0" lang="en-US" sz="800" spc="-1" strike="noStrike">
              <a:solidFill>
                <a:srgbClr val="ffffff"/>
              </a:solidFill>
              <a:latin typeface="Times New Roman"/>
            </a:endParaRPr>
          </a:p>
        </p:txBody>
      </p:sp>
      <p:sp>
        <p:nvSpPr>
          <p:cNvPr id="179" name="PlaceHolder 5"/>
          <p:cNvSpPr>
            <a:spLocks noGrp="1"/>
          </p:cNvSpPr>
          <p:nvPr>
            <p:ph type="sldNum" idx="15"/>
          </p:nvPr>
        </p:nvSpPr>
        <p:spPr>
          <a:xfrm>
            <a:off x="6641640" y="603864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265B2-A34D-45A4-B62E-1D2C39E4B8B2}"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
        <p:nvSpPr>
          <p:cNvPr id="180"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aaaa"/>
        </a:solidFill>
      </p:bgPr>
    </p:bg>
    <p:spTree>
      <p:nvGrpSpPr>
        <p:cNvPr id="1" name=""/>
        <p:cNvGrpSpPr/>
        <p:nvPr/>
      </p:nvGrpSpPr>
      <p:grpSpPr>
        <a:xfrm>
          <a:off x="0" y="0"/>
          <a:ext cx="0" cy="0"/>
          <a:chOff x="0" y="0"/>
          <a:chExt cx="0" cy="0"/>
        </a:xfrm>
      </p:grpSpPr>
      <p:pic>
        <p:nvPicPr>
          <p:cNvPr id="217" name="" descr=""/>
          <p:cNvPicPr/>
          <p:nvPr/>
        </p:nvPicPr>
        <p:blipFill>
          <a:blip r:embed="rId2"/>
          <a:stretch/>
        </p:blipFill>
        <p:spPr>
          <a:xfrm>
            <a:off x="6629400" y="6416640"/>
            <a:ext cx="1136520" cy="281160"/>
          </a:xfrm>
          <a:prstGeom prst="rect">
            <a:avLst/>
          </a:prstGeom>
          <a:ln w="0">
            <a:noFill/>
          </a:ln>
        </p:spPr>
      </p:pic>
      <p:sp>
        <p:nvSpPr>
          <p:cNvPr id="218"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219" name="PlaceHolder 2"/>
          <p:cNvSpPr>
            <a:spLocks noGrp="1"/>
          </p:cNvSpPr>
          <p:nvPr>
            <p:ph type="body"/>
          </p:nvPr>
        </p:nvSpPr>
        <p:spPr>
          <a:xfrm>
            <a:off x="342720" y="3657240"/>
            <a:ext cx="8458200" cy="1600200"/>
          </a:xfrm>
          <a:prstGeom prst="rect">
            <a:avLst/>
          </a:prstGeom>
          <a:noFill/>
          <a:ln w="0">
            <a:noFill/>
          </a:ln>
        </p:spPr>
        <p:txBody>
          <a:bodyPr lIns="90000" rIns="90000" tIns="46800" bIns="46800" anchor="t">
            <a:normAutofit fontScale="43000"/>
          </a:bodyPr>
          <a:p>
            <a:pPr marL="147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20" name="PlaceHolder 3"/>
          <p:cNvSpPr>
            <a:spLocks noGrp="1"/>
          </p:cNvSpPr>
          <p:nvPr>
            <p:ph type="dt" idx="16"/>
          </p:nvPr>
        </p:nvSpPr>
        <p:spPr>
          <a:xfrm>
            <a:off x="355680" y="603864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221" name="PlaceHolder 4"/>
          <p:cNvSpPr>
            <a:spLocks noGrp="1"/>
          </p:cNvSpPr>
          <p:nvPr>
            <p:ph type="ftr" idx="17"/>
          </p:nvPr>
        </p:nvSpPr>
        <p:spPr>
          <a:xfrm>
            <a:off x="3114360" y="6038640"/>
            <a:ext cx="2895480" cy="20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222" name="PlaceHolder 5"/>
          <p:cNvSpPr>
            <a:spLocks noGrp="1"/>
          </p:cNvSpPr>
          <p:nvPr>
            <p:ph type="sldNum" idx="18"/>
          </p:nvPr>
        </p:nvSpPr>
        <p:spPr>
          <a:xfrm>
            <a:off x="6641640" y="603864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F27CA-328D-4B84-8551-BEF8CC8AC7D2}"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23"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0" name="" descr=""/>
          <p:cNvPicPr/>
          <p:nvPr/>
        </p:nvPicPr>
        <p:blipFill>
          <a:blip r:embed="rId2"/>
          <a:stretch/>
        </p:blipFill>
        <p:spPr>
          <a:xfrm>
            <a:off x="6629400" y="6418440"/>
            <a:ext cx="1136520" cy="280800"/>
          </a:xfrm>
          <a:prstGeom prst="rect">
            <a:avLst/>
          </a:prstGeom>
          <a:ln w="0">
            <a:noFill/>
          </a:ln>
        </p:spPr>
      </p:pic>
      <p:sp>
        <p:nvSpPr>
          <p:cNvPr id="261"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262" name="PlaceHolder 2"/>
          <p:cNvSpPr>
            <a:spLocks noGrp="1"/>
          </p:cNvSpPr>
          <p:nvPr>
            <p:ph type="body"/>
          </p:nvPr>
        </p:nvSpPr>
        <p:spPr>
          <a:xfrm>
            <a:off x="342720" y="3657240"/>
            <a:ext cx="8458200" cy="1600200"/>
          </a:xfrm>
          <a:prstGeom prst="rect">
            <a:avLst/>
          </a:prstGeom>
          <a:noFill/>
          <a:ln w="0">
            <a:noFill/>
          </a:ln>
        </p:spPr>
        <p:txBody>
          <a:bodyPr lIns="90000" rIns="90000" tIns="46800" bIns="46800" anchor="t">
            <a:normAutofit fontScale="43000"/>
          </a:bodyPr>
          <a:p>
            <a:pPr marL="147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47240" indent="-14724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47240" indent="-14724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63" name="PlaceHolder 3"/>
          <p:cNvSpPr>
            <a:spLocks noGrp="1"/>
          </p:cNvSpPr>
          <p:nvPr>
            <p:ph type="dt" idx="19"/>
          </p:nvPr>
        </p:nvSpPr>
        <p:spPr>
          <a:xfrm>
            <a:off x="355680" y="603864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date/time&gt;</a:t>
            </a:r>
            <a:endParaRPr b="0" lang="en-US" sz="800" spc="-1" strike="noStrike">
              <a:solidFill>
                <a:srgbClr val="ffffff"/>
              </a:solidFill>
              <a:latin typeface="Times New Roman"/>
            </a:endParaRPr>
          </a:p>
        </p:txBody>
      </p:sp>
      <p:sp>
        <p:nvSpPr>
          <p:cNvPr id="264" name="PlaceHolder 4"/>
          <p:cNvSpPr>
            <a:spLocks noGrp="1"/>
          </p:cNvSpPr>
          <p:nvPr>
            <p:ph type="ftr" idx="20"/>
          </p:nvPr>
        </p:nvSpPr>
        <p:spPr>
          <a:xfrm>
            <a:off x="3114360" y="6038640"/>
            <a:ext cx="2895480" cy="20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footer&gt;</a:t>
            </a:r>
            <a:endParaRPr b="0" lang="en-US" sz="800" spc="-1" strike="noStrike">
              <a:solidFill>
                <a:srgbClr val="ffffff"/>
              </a:solidFill>
              <a:latin typeface="Times New Roman"/>
            </a:endParaRPr>
          </a:p>
        </p:txBody>
      </p:sp>
      <p:sp>
        <p:nvSpPr>
          <p:cNvPr id="265" name="PlaceHolder 5"/>
          <p:cNvSpPr>
            <a:spLocks noGrp="1"/>
          </p:cNvSpPr>
          <p:nvPr>
            <p:ph type="sldNum" idx="21"/>
          </p:nvPr>
        </p:nvSpPr>
        <p:spPr>
          <a:xfrm>
            <a:off x="6641640" y="603864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40E56-79CD-4AB3-9111-39489333F3CF}"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
        <p:nvSpPr>
          <p:cNvPr id="266"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aaaa"/>
        </a:solidFill>
      </p:bgPr>
    </p:bg>
    <p:spTree>
      <p:nvGrpSpPr>
        <p:cNvPr id="1" name=""/>
        <p:cNvGrpSpPr/>
        <p:nvPr/>
      </p:nvGrpSpPr>
      <p:grpSpPr>
        <a:xfrm>
          <a:off x="0" y="0"/>
          <a:ext cx="0" cy="0"/>
          <a:chOff x="0" y="0"/>
          <a:chExt cx="0" cy="0"/>
        </a:xfrm>
      </p:grpSpPr>
      <p:pic>
        <p:nvPicPr>
          <p:cNvPr id="303" name="" descr=""/>
          <p:cNvPicPr/>
          <p:nvPr/>
        </p:nvPicPr>
        <p:blipFill>
          <a:blip r:embed="rId2"/>
          <a:stretch/>
        </p:blipFill>
        <p:spPr>
          <a:xfrm>
            <a:off x="6629400" y="6416640"/>
            <a:ext cx="1136520" cy="281160"/>
          </a:xfrm>
          <a:prstGeom prst="rect">
            <a:avLst/>
          </a:prstGeom>
          <a:ln w="0">
            <a:noFill/>
          </a:ln>
        </p:spPr>
      </p:pic>
      <p:sp>
        <p:nvSpPr>
          <p:cNvPr id="304"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305" name="PlaceHolder 2"/>
          <p:cNvSpPr>
            <a:spLocks noGrp="1"/>
          </p:cNvSpPr>
          <p:nvPr>
            <p:ph type="body"/>
          </p:nvPr>
        </p:nvSpPr>
        <p:spPr>
          <a:xfrm>
            <a:off x="342720" y="3657240"/>
            <a:ext cx="8458200" cy="1600200"/>
          </a:xfrm>
          <a:prstGeom prst="rect">
            <a:avLst/>
          </a:prstGeom>
          <a:noFill/>
          <a:ln w="0">
            <a:noFill/>
          </a:ln>
        </p:spPr>
        <p:txBody>
          <a:bodyPr lIns="90000" rIns="90000" tIns="46800" bIns="46800" anchor="t">
            <a:normAutofit fontScale="43000"/>
          </a:bodyPr>
          <a:p>
            <a:pPr marL="1472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47240" indent="-14724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47240" indent="-1472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06" name="PlaceHolder 3"/>
          <p:cNvSpPr>
            <a:spLocks noGrp="1"/>
          </p:cNvSpPr>
          <p:nvPr>
            <p:ph type="dt" idx="22"/>
          </p:nvPr>
        </p:nvSpPr>
        <p:spPr>
          <a:xfrm>
            <a:off x="355680" y="603864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307" name="PlaceHolder 4"/>
          <p:cNvSpPr>
            <a:spLocks noGrp="1"/>
          </p:cNvSpPr>
          <p:nvPr>
            <p:ph type="ftr" idx="23"/>
          </p:nvPr>
        </p:nvSpPr>
        <p:spPr>
          <a:xfrm>
            <a:off x="3114360" y="6038640"/>
            <a:ext cx="2895480" cy="20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308" name="PlaceHolder 5"/>
          <p:cNvSpPr>
            <a:spLocks noGrp="1"/>
          </p:cNvSpPr>
          <p:nvPr>
            <p:ph type="sldNum" idx="24"/>
          </p:nvPr>
        </p:nvSpPr>
        <p:spPr>
          <a:xfrm>
            <a:off x="6641640" y="603864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04086-281B-4E2B-8A80-807900B5649A}"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09" name=""/>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2"/>
          <a:stretch/>
        </p:blipFill>
        <p:spPr>
          <a:xfrm>
            <a:off x="6629400" y="6418440"/>
            <a:ext cx="1136520" cy="280800"/>
          </a:xfrm>
          <a:prstGeom prst="rect">
            <a:avLst/>
          </a:prstGeom>
          <a:ln w="0">
            <a:noFill/>
          </a:ln>
        </p:spPr>
      </p:pic>
      <p:sp>
        <p:nvSpPr>
          <p:cNvPr id="34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lick to edit the title text format</a:t>
            </a:r>
            <a:endParaRPr b="1" lang="en-US" sz="3600" spc="-1" strike="noStrike">
              <a:solidFill>
                <a:srgbClr val="ff0000"/>
              </a:solidFill>
              <a:latin typeface="Arial"/>
            </a:endParaRPr>
          </a:p>
        </p:txBody>
      </p:sp>
      <p:sp>
        <p:nvSpPr>
          <p:cNvPr id="348" name="PlaceHolder 2"/>
          <p:cNvSpPr>
            <a:spLocks noGrp="1"/>
          </p:cNvSpPr>
          <p:nvPr>
            <p:ph type="body"/>
          </p:nvPr>
        </p:nvSpPr>
        <p:spPr>
          <a:xfrm>
            <a:off x="333360" y="1185480"/>
            <a:ext cx="8467920" cy="4692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9" name="PlaceHolder 3"/>
          <p:cNvSpPr>
            <a:spLocks noGrp="1"/>
          </p:cNvSpPr>
          <p:nvPr>
            <p:ph type="dt" idx="25"/>
          </p:nvPr>
        </p:nvSpPr>
        <p:spPr>
          <a:xfrm>
            <a:off x="355680" y="6038640"/>
            <a:ext cx="2133360" cy="20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350" name="PlaceHolder 4"/>
          <p:cNvSpPr>
            <a:spLocks noGrp="1"/>
          </p:cNvSpPr>
          <p:nvPr>
            <p:ph type="ftr" idx="26"/>
          </p:nvPr>
        </p:nvSpPr>
        <p:spPr>
          <a:xfrm>
            <a:off x="3114360" y="6537240"/>
            <a:ext cx="2895480" cy="2066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351" name="PlaceHolder 5"/>
          <p:cNvSpPr>
            <a:spLocks noGrp="1"/>
          </p:cNvSpPr>
          <p:nvPr>
            <p:ph type="sldNum" idx="27"/>
          </p:nvPr>
        </p:nvSpPr>
        <p:spPr>
          <a:xfrm>
            <a:off x="6641640" y="6038640"/>
            <a:ext cx="2133720" cy="20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09F05-0256-4065-B9E8-9316031DFEF9}"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52" name=""/>
          <p:cNvSpPr/>
          <p:nvPr/>
        </p:nvSpPr>
        <p:spPr>
          <a:xfrm>
            <a:off x="338040" y="6330960"/>
            <a:ext cx="8463240" cy="461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42720" y="1942920"/>
            <a:ext cx="84582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CP3D Driver Design</a:t>
            </a:r>
            <a:endParaRPr b="1" lang="en-US" sz="4000" spc="-1" strike="noStrike">
              <a:solidFill>
                <a:srgbClr val="ffffff"/>
              </a:solidFill>
              <a:latin typeface="Arial"/>
            </a:endParaRPr>
          </a:p>
        </p:txBody>
      </p:sp>
      <p:sp>
        <p:nvSpPr>
          <p:cNvPr id="432" name="PlaceHolder 2"/>
          <p:cNvSpPr>
            <a:spLocks noGrp="1"/>
          </p:cNvSpPr>
          <p:nvPr>
            <p:ph type="subTitle"/>
          </p:nvPr>
        </p:nvSpPr>
        <p:spPr>
          <a:xfrm>
            <a:off x="342720" y="3698640"/>
            <a:ext cx="8458200" cy="148572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vi Sankar Korada</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sion 0.0.4</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gust 25, 200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 Design details</a:t>
            </a:r>
            <a:endParaRPr b="1" lang="en-US" sz="3600" spc="-1" strike="noStrike">
              <a:solidFill>
                <a:srgbClr val="ff0000"/>
              </a:solidFill>
              <a:latin typeface="Arial"/>
            </a:endParaRPr>
          </a:p>
        </p:txBody>
      </p:sp>
      <p:graphicFrame>
        <p:nvGraphicFramePr>
          <p:cNvPr id="456" name=""/>
          <p:cNvGraphicFramePr/>
          <p:nvPr/>
        </p:nvGraphicFramePr>
        <p:xfrm>
          <a:off x="291960" y="990720"/>
          <a:ext cx="8560080" cy="5257800"/>
        </p:xfrm>
        <a:graphic>
          <a:graphicData uri="http://schemas.openxmlformats.org/presentationml/2006/ole">
            <p:oleObj r:id="rId1" spid="">
              <p:embed/>
              <p:pic>
                <p:nvPicPr>
                  <p:cNvPr id="457" name="" descr=""/>
                  <p:cNvPicPr/>
                  <p:nvPr/>
                </p:nvPicPr>
                <p:blipFill>
                  <a:blip r:embed="rId2"/>
                  <a:stretch/>
                </p:blipFill>
                <p:spPr>
                  <a:xfrm>
                    <a:off x="291960" y="990720"/>
                    <a:ext cx="856008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Timing Diagram – 8 code blocks</a:t>
            </a:r>
            <a:endParaRPr b="1" lang="en-US" sz="3600" spc="-1" strike="noStrike">
              <a:solidFill>
                <a:srgbClr val="ff0000"/>
              </a:solidFill>
              <a:latin typeface="Arial"/>
            </a:endParaRPr>
          </a:p>
        </p:txBody>
      </p:sp>
      <p:graphicFrame>
        <p:nvGraphicFramePr>
          <p:cNvPr id="459" name=""/>
          <p:cNvGraphicFramePr/>
          <p:nvPr/>
        </p:nvGraphicFramePr>
        <p:xfrm>
          <a:off x="152280" y="914400"/>
          <a:ext cx="8763120" cy="5334120"/>
        </p:xfrm>
        <a:graphic>
          <a:graphicData uri="http://schemas.openxmlformats.org/presentationml/2006/ole">
            <p:oleObj r:id="rId1" spid="">
              <p:embed/>
              <p:pic>
                <p:nvPicPr>
                  <p:cNvPr id="460" name="" descr=""/>
                  <p:cNvPicPr/>
                  <p:nvPr/>
                </p:nvPicPr>
                <p:blipFill>
                  <a:blip r:embed="rId2"/>
                  <a:stretch/>
                </p:blipFill>
                <p:spPr>
                  <a:xfrm>
                    <a:off x="152280" y="914400"/>
                    <a:ext cx="8763120" cy="533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APIs (Initialization)</a:t>
            </a:r>
            <a:endParaRPr b="1" lang="en-US" sz="3600" spc="-1" strike="noStrike">
              <a:solidFill>
                <a:srgbClr val="ff0000"/>
              </a:solidFill>
              <a:latin typeface="Arial"/>
            </a:endParaRPr>
          </a:p>
        </p:txBody>
      </p:sp>
      <p:sp>
        <p:nvSpPr>
          <p:cNvPr id="462" name="PlaceHolder 2"/>
          <p:cNvSpPr>
            <a:spLocks noGrp="1"/>
          </p:cNvSpPr>
          <p:nvPr>
            <p:ph/>
          </p:nvPr>
        </p:nvSpPr>
        <p:spPr>
          <a:xfrm>
            <a:off x="304560" y="914040"/>
            <a:ext cx="8505720" cy="53341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P3D_DRV_getNumBuf()</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parameter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er for returning the number of buffers required information</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er for Driver Size configuration paramet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ity</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utes the buffer requirements based on the size configuration information provided</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s the number of buffers required into the pointer provided</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P3D_DRV_getBufDesc()</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parameter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er to the memBuffer array</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er for Driver Size configuration paramet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ity</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lls the memBuffer structure fields for each buffer required</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sible memBuffer fields are size, alignment, memory type (volatile or non-volatile), memory class needed, etc.</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unction required two fields from the size configuration structure be set before calling. Size values are computed from the mode and the maxCodeBlocks values.</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P3D_DRV_in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parameter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er to the memBuffer array with base addresses filled after allocating memory</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er to the driver initialization parameters structure which covers all the possible inputs required for the driver</a:t>
            </a:r>
            <a:endParaRPr b="0" lang="en-US" sz="10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Configuration Parameters Structure for TCP3 decoder</a:t>
            </a:r>
            <a:endParaRPr b="0" lang="en-US" sz="10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SP Core ID</a:t>
            </a:r>
            <a:endParaRPr b="0" lang="en-US" sz="10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imum code blocks possible in any sub-frame</a:t>
            </a:r>
            <a:endParaRPr b="0" lang="en-US" sz="10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er to the EDMA3 LLD handle</a:t>
            </a:r>
            <a:endParaRPr b="0" lang="en-US" sz="10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MA channels for Ping and Pong, etc</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ity</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called once to setup driver for the operating mode as specified in the control configuration parameters</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 initializes all the internal buffers and instances with the memBuffer structure values</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kes all the required resources provided through the driver init structure – for example EDMA channels, PaRAMs, etc.</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s the TCP3D internal state machine by writing into the common Configuration registers (mode, emulation, execution)</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lls all the known fields in the pseudo PaRAM memory based on the mode to make the enqueue function as light as possible</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lizes the EDMA3 PaRAM entries of all the allocated physical channels with the known values at this tim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APIs (Run-time)</a:t>
            </a:r>
            <a:endParaRPr b="1" lang="en-US" sz="3600" spc="-1" strike="noStrike">
              <a:solidFill>
                <a:srgbClr val="ff0000"/>
              </a:solidFill>
              <a:latin typeface="Arial"/>
            </a:endParaRPr>
          </a:p>
        </p:txBody>
      </p:sp>
      <p:sp>
        <p:nvSpPr>
          <p:cNvPr id="464" name="PlaceHolder 2"/>
          <p:cNvSpPr>
            <a:spLocks noGrp="1"/>
          </p:cNvSpPr>
          <p:nvPr>
            <p:ph/>
          </p:nvPr>
        </p:nvSpPr>
        <p:spPr>
          <a:xfrm>
            <a:off x="304560" y="914040"/>
            <a:ext cx="8505720" cy="53341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3D_DRV_subFrmReset()</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parameters</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TCP3D driver instance</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of the status array buffer for the sub-frame where the status output will be DMAed</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code blocks in the sub-frame</a:t>
            </a:r>
            <a:endParaRPr b="0" lang="en-US" sz="12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ality</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he driver instance with the input arguments</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es the driver sub-frame variables to the default values</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ts the pseudo PaRAM fields and allocated EDMA channel PaRAM fields</a:t>
            </a:r>
            <a:endParaRPr b="0" lang="en-US" sz="12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3D_DRV_enqueCodeBlock()</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parameters</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TCP3D driver instance</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prepared input configuration registers memory</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 Block length value</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input LLR data streams (systematic, parity0 and parity1)</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set between the input LLR streams</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where the output hard decisions to be DMAed</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rupt Flag</a:t>
            </a:r>
            <a:endParaRPr b="0" lang="en-US" sz="12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ality</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unction is to be called in the run-time for appending the code blocks to the input lists. This function appends the code blocks alternately among the Ping and Pong lists which are used for loading into either the Ping or Pong memories of TCP3 Decoder.</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his function copies the input configuration registers memory to the appropriate location in the initialization time allocated buffer array</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he Hard Decision pseudo PaRAM entries to enable the chaining from the previous one in the list</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he LLR pseudo PaRAM entries with the given pointers and values according to the mode</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so checks for the end of the list using the subFrmCodeBlocks value set when the sub-frame reset function is called, so as to generate completion interrupts for Ping and Pong path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APIs (Run-time) (cont..)</a:t>
            </a:r>
            <a:endParaRPr b="1" lang="en-US" sz="3600" spc="-1" strike="noStrike">
              <a:solidFill>
                <a:srgbClr val="ff0000"/>
              </a:solidFill>
              <a:latin typeface="Arial"/>
            </a:endParaRPr>
          </a:p>
        </p:txBody>
      </p:sp>
      <p:sp>
        <p:nvSpPr>
          <p:cNvPr id="466" name="PlaceHolder 2"/>
          <p:cNvSpPr>
            <a:spLocks noGrp="1"/>
          </p:cNvSpPr>
          <p:nvPr>
            <p:ph/>
          </p:nvPr>
        </p:nvSpPr>
        <p:spPr>
          <a:xfrm>
            <a:off x="304560" y="914040"/>
            <a:ext cx="8505720" cy="533412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3D_DRV_start()</a:t>
            </a:r>
            <a:endParaRPr b="0" lang="en-US" sz="16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parameters</a:t>
            </a:r>
            <a:endParaRPr b="0" lang="en-US" sz="14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TCP3D driver instance</a:t>
            </a:r>
            <a:endParaRPr b="0" lang="en-US" sz="12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ality</a:t>
            </a:r>
            <a:endParaRPr b="0" lang="en-US" sz="14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required to pass a valid command to choose ping or pong list to be started using the startFlag in the instance before calling this API, otherwise this API does nothing and returns No Error.</a:t>
            </a:r>
            <a:endParaRPr b="0" lang="en-US" sz="12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I can be used for starting the input data transfers to the TCP3 decoder ping or pong memories.</a:t>
            </a:r>
            <a:endParaRPr b="0" lang="en-US" sz="12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3D_DRV_control()</a:t>
            </a:r>
            <a:endParaRPr b="0" lang="en-US" sz="16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parameters</a:t>
            </a:r>
            <a:endParaRPr b="0" lang="en-US" sz="14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TCP3D driver instance</a:t>
            </a:r>
            <a:endParaRPr b="0" lang="en-US" sz="12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driver control structure</a:t>
            </a:r>
            <a:endParaRPr b="0" lang="en-US" sz="12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ality</a:t>
            </a:r>
            <a:endParaRPr b="0" lang="en-US" sz="14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required to specify a valid command in the control structure before calling this API, otherwise it will throw an Error.</a:t>
            </a:r>
            <a:endParaRPr b="0" lang="en-US" sz="12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I can be used for doing specific things in the driver as defined by the control commands.</a:t>
            </a:r>
            <a:endParaRPr b="0" lang="en-US" sz="12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re are very few commands defined and scope of this API can be extended in future to include more commands as needed.</a:t>
            </a:r>
            <a:endParaRPr b="0" lang="en-US" sz="12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3D_DRV_status()</a:t>
            </a:r>
            <a:endParaRPr b="0" lang="en-US" sz="16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parameters</a:t>
            </a:r>
            <a:endParaRPr b="0" lang="en-US" sz="14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TCP3D driver instance</a:t>
            </a:r>
            <a:endParaRPr b="0" lang="en-US" sz="12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to the driver status structure</a:t>
            </a:r>
            <a:endParaRPr b="0" lang="en-US" sz="1200" spc="-1" strike="noStrike">
              <a:solidFill>
                <a:srgbClr val="000000"/>
              </a:solidFill>
              <a:latin typeface="Arial"/>
            </a:endParaRPr>
          </a:p>
          <a:p>
            <a:pPr lvl="1" marL="735480" indent="-282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ality</a:t>
            </a:r>
            <a:endParaRPr b="0" lang="en-US" sz="14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required to specify a valid command in the status structure before calling this API, otherwise it will throw an Error.</a:t>
            </a:r>
            <a:endParaRPr b="0" lang="en-US" sz="12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I can be used for providing specific information from the driver instance as defined by the status commands. For example one can use this to get the state of the driver.</a:t>
            </a:r>
            <a:endParaRPr b="0" lang="en-US" sz="1200" spc="-1" strike="noStrike">
              <a:solidFill>
                <a:srgbClr val="000000"/>
              </a:solidFill>
              <a:latin typeface="Arial"/>
            </a:endParaRPr>
          </a:p>
          <a:p>
            <a:pPr lvl="2" marL="1131480" indent="-22608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re are very few commands defined and scope of this API can be extended in future to include more commands as need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Utility APIs</a:t>
            </a:r>
            <a:endParaRPr b="1" lang="en-US" sz="3600" spc="-1" strike="noStrike">
              <a:solidFill>
                <a:srgbClr val="ff0000"/>
              </a:solidFill>
              <a:latin typeface="Arial"/>
            </a:endParaRPr>
          </a:p>
        </p:txBody>
      </p:sp>
      <p:sp>
        <p:nvSpPr>
          <p:cNvPr id="468" name="PlaceHolder 2"/>
          <p:cNvSpPr>
            <a:spLocks noGrp="1"/>
          </p:cNvSpPr>
          <p:nvPr>
            <p:ph/>
          </p:nvPr>
        </p:nvSpPr>
        <p:spPr>
          <a:xfrm>
            <a:off x="333000" y="914040"/>
            <a:ext cx="8505720" cy="50626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3D_DRV_prepConfigReg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 parameters</a:t>
            </a:r>
            <a:endParaRPr b="0" lang="en-US" sz="20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r to input configuration parameters structure</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r to the final IC registers memory for the current code block</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r to the temp IC memory created</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ag to tell whether to generate fixed registers (genFixedRegs) or copy from temp IC memory</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ag to tell the decoder type</a:t>
            </a:r>
            <a:endParaRPr b="0" lang="en-US" sz="1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ity</a:t>
            </a:r>
            <a:endParaRPr b="0" lang="en-US" sz="20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ill place all parameters into appropriate fields into the given final IC registers memory from the input parameters structure</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genFixedRegs flag is NULL, then fixed registers are copied from the temp IC memory</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3GPP type decoder, IC12-14 are always zeroed</a:t>
            </a:r>
            <a:endParaRPr b="0" lang="en-US" sz="1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3D_DRV_prepFixedConfigReg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 parameters</a:t>
            </a:r>
            <a:endParaRPr b="0" lang="en-US" sz="20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r to input configuration parameters structure</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r to the temp IC registers memory</a:t>
            </a:r>
            <a:endParaRPr b="0" lang="en-US" sz="1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ity</a:t>
            </a:r>
            <a:endParaRPr b="0" lang="en-US" sz="20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ares the fixed portions of temporary register memory from the parameters sent</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 value is used to determine which fixed registers are prepar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Arial"/>
              </a:rPr>
              <a:t>Input Configuration Registers (3GPP MODE)</a:t>
            </a:r>
            <a:endParaRPr b="1" lang="en-US" sz="3200" spc="-1" strike="noStrike">
              <a:solidFill>
                <a:srgbClr val="ff0000"/>
              </a:solidFill>
              <a:latin typeface="Arial"/>
            </a:endParaRPr>
          </a:p>
        </p:txBody>
      </p:sp>
      <p:graphicFrame>
        <p:nvGraphicFramePr>
          <p:cNvPr id="470" name=""/>
          <p:cNvGraphicFramePr/>
          <p:nvPr/>
        </p:nvGraphicFramePr>
        <p:xfrm>
          <a:off x="511200" y="1185840"/>
          <a:ext cx="8112240" cy="4692600"/>
        </p:xfrm>
        <a:graphic>
          <a:graphicData uri="http://schemas.openxmlformats.org/presentationml/2006/ole">
            <p:oleObj r:id="rId1" spid="">
              <p:embed/>
              <p:pic>
                <p:nvPicPr>
                  <p:cNvPr id="471" name="" descr=""/>
                  <p:cNvPicPr/>
                  <p:nvPr/>
                </p:nvPicPr>
                <p:blipFill>
                  <a:blip r:embed="rId2"/>
                  <a:stretch/>
                </p:blipFill>
                <p:spPr>
                  <a:xfrm>
                    <a:off x="511200" y="1185840"/>
                    <a:ext cx="8112240" cy="469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Arial"/>
              </a:rPr>
              <a:t>Input Configuration Registers (LTE/WIMAX MODE)</a:t>
            </a:r>
            <a:endParaRPr b="1" lang="en-US" sz="3200" spc="-1" strike="noStrike">
              <a:solidFill>
                <a:srgbClr val="ff0000"/>
              </a:solidFill>
              <a:latin typeface="Arial"/>
            </a:endParaRPr>
          </a:p>
        </p:txBody>
      </p:sp>
      <p:graphicFrame>
        <p:nvGraphicFramePr>
          <p:cNvPr id="473" name=""/>
          <p:cNvGraphicFramePr/>
          <p:nvPr/>
        </p:nvGraphicFramePr>
        <p:xfrm>
          <a:off x="511200" y="1185840"/>
          <a:ext cx="8112240" cy="4692600"/>
        </p:xfrm>
        <a:graphic>
          <a:graphicData uri="http://schemas.openxmlformats.org/presentationml/2006/ole">
            <p:oleObj r:id="rId1" spid="">
              <p:embed/>
              <p:pic>
                <p:nvPicPr>
                  <p:cNvPr id="474" name="" descr=""/>
                  <p:cNvPicPr/>
                  <p:nvPr/>
                </p:nvPicPr>
                <p:blipFill>
                  <a:blip r:embed="rId2"/>
                  <a:stretch/>
                </p:blipFill>
                <p:spPr>
                  <a:xfrm>
                    <a:off x="511200" y="1185840"/>
                    <a:ext cx="8112240" cy="469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434" name="PlaceHolder 2"/>
          <p:cNvSpPr>
            <a:spLocks noGrp="1"/>
          </p:cNvSpPr>
          <p:nvPr>
            <p:ph/>
          </p:nvPr>
        </p:nvSpPr>
        <p:spPr>
          <a:xfrm>
            <a:off x="1333440" y="1528920"/>
            <a:ext cx="6238800" cy="3585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 History</a:t>
            </a:r>
            <a:endParaRPr b="0" lang="en-US" sz="1800" spc="-1" strike="noStrike">
              <a:solidFill>
                <a:srgbClr val="000000"/>
              </a:solidFill>
              <a:latin typeface="Arial"/>
            </a:endParaRPr>
          </a:p>
        </p:txBody>
      </p:sp>
      <p:graphicFrame>
        <p:nvGraphicFramePr>
          <p:cNvPr id="435" name=""/>
          <p:cNvGraphicFramePr/>
          <p:nvPr/>
        </p:nvGraphicFramePr>
        <p:xfrm>
          <a:off x="1447920" y="1882800"/>
          <a:ext cx="6095880" cy="2093760"/>
        </p:xfrm>
        <a:graphic>
          <a:graphicData uri="http://schemas.openxmlformats.org/drawingml/2006/table">
            <a:tbl>
              <a:tblPr/>
              <a:tblGrid>
                <a:gridCol w="1228680"/>
                <a:gridCol w="981000"/>
                <a:gridCol w="1104840"/>
                <a:gridCol w="278136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31/200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vi Kora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03/200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vi Kora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d APIs and Diagram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19/200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vi Kora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d API descriptions and the flow diagram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8/25/200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vi Kora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aaaa"/>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CP3D Driver - Preliminary </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Operating Modes</a:t>
            </a:r>
            <a:endParaRPr b="1" lang="en-US" sz="3600" spc="-1" strike="noStrike">
              <a:solidFill>
                <a:srgbClr val="ff0000"/>
              </a:solidFill>
              <a:latin typeface="Arial"/>
            </a:endParaRPr>
          </a:p>
        </p:txBody>
      </p:sp>
      <p:sp>
        <p:nvSpPr>
          <p:cNvPr id="438" name="PlaceHolder 2"/>
          <p:cNvSpPr>
            <a:spLocks noGrp="1"/>
          </p:cNvSpPr>
          <p:nvPr>
            <p:ph/>
          </p:nvPr>
        </p:nvSpPr>
        <p:spPr>
          <a:xfrm>
            <a:off x="333360" y="1185480"/>
            <a:ext cx="8467920" cy="4986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lit Mod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separate EDMA channels are used for both Input and Output transfers (4 physical channels require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input and output memory sets are used independentl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MAP decoders are used independently to operate with two independent memory set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 Buffer Mod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separate EDMA channels are used for both Input and Output transfers (4 physical channels require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independent input memory sets are used for input transfers, but the decoding will happen only after reading the previous outpu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MAP decoders are used with one input data memory set</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Buffer Mod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separate EDMA channels are used for both Input and Output transfers (2 physical channels require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one MAP decoder is use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one memory set is u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04560" y="-360"/>
            <a:ext cx="883908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 Design Idea</a:t>
            </a:r>
            <a:endParaRPr b="1" lang="en-US" sz="3600" spc="-1" strike="noStrike">
              <a:solidFill>
                <a:srgbClr val="ff0000"/>
              </a:solidFill>
              <a:latin typeface="Arial"/>
            </a:endParaRPr>
          </a:p>
        </p:txBody>
      </p:sp>
      <p:graphicFrame>
        <p:nvGraphicFramePr>
          <p:cNvPr id="440" name=""/>
          <p:cNvGraphicFramePr/>
          <p:nvPr/>
        </p:nvGraphicFramePr>
        <p:xfrm>
          <a:off x="304920" y="2895480"/>
          <a:ext cx="8534160" cy="3351240"/>
        </p:xfrm>
        <a:graphic>
          <a:graphicData uri="http://schemas.openxmlformats.org/presentationml/2006/ole">
            <p:oleObj r:id="rId1" spid="">
              <p:embed/>
              <p:pic>
                <p:nvPicPr>
                  <p:cNvPr id="441" name="" descr=""/>
                  <p:cNvPicPr/>
                  <p:nvPr/>
                </p:nvPicPr>
                <p:blipFill>
                  <a:blip r:embed="rId2"/>
                  <a:stretch/>
                </p:blipFill>
                <p:spPr>
                  <a:xfrm>
                    <a:off x="304920" y="2895480"/>
                    <a:ext cx="8534160" cy="3351240"/>
                  </a:xfrm>
                  <a:prstGeom prst="rect">
                    <a:avLst/>
                  </a:prstGeom>
                  <a:ln w="0">
                    <a:noFill/>
                  </a:ln>
                </p:spPr>
              </p:pic>
            </p:oleObj>
          </a:graphicData>
        </a:graphic>
      </p:graphicFrame>
      <p:sp>
        <p:nvSpPr>
          <p:cNvPr id="442" name=""/>
          <p:cNvSpPr/>
          <p:nvPr/>
        </p:nvSpPr>
        <p:spPr>
          <a:xfrm>
            <a:off x="304920" y="914400"/>
            <a:ext cx="8534160" cy="19051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rocessing task upon soft bits (LLR) ready performs:</a:t>
            </a:r>
            <a:endParaRPr b="0" lang="en-US" sz="14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queues CBs to TCP3D input pseudo PaRAM list in L2 which holds the actual PaRAMs prepared.</a:t>
            </a:r>
            <a:endParaRPr b="0" lang="en-US" sz="14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P3D driver copies pseudo PaRAM sets to EDMA PaRAM space and executes them.</a:t>
            </a:r>
            <a:endParaRPr b="0" lang="en-US" sz="14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tarts TCP3D driver if it is not running. This can be done by polling the stop flag or by using ISR function.</a:t>
            </a:r>
            <a:endParaRPr b="0" lang="en-US" sz="1400" spc="-1" strike="noStrike">
              <a:solidFill>
                <a:srgbClr val="000000"/>
              </a:solidFill>
              <a:latin typeface="Arial"/>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t-processing task can be triggered by enabling the driver to generate interrupt on decoding a specific code blo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graphicFrame>
        <p:nvGraphicFramePr>
          <p:cNvPr id="444" name=""/>
          <p:cNvGraphicFramePr/>
          <p:nvPr/>
        </p:nvGraphicFramePr>
        <p:xfrm>
          <a:off x="892080" y="1185840"/>
          <a:ext cx="7348680" cy="4692600"/>
        </p:xfrm>
        <a:graphic>
          <a:graphicData uri="http://schemas.openxmlformats.org/presentationml/2006/ole">
            <p:oleObj r:id="rId1" spid="">
              <p:embed/>
              <p:pic>
                <p:nvPicPr>
                  <p:cNvPr id="445" name="" descr=""/>
                  <p:cNvPicPr/>
                  <p:nvPr/>
                </p:nvPicPr>
                <p:blipFill>
                  <a:blip r:embed="rId2"/>
                  <a:stretch/>
                </p:blipFill>
                <p:spPr>
                  <a:xfrm>
                    <a:off x="892080" y="1185840"/>
                    <a:ext cx="7348680" cy="469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 High Level Flow</a:t>
            </a:r>
            <a:endParaRPr b="1" lang="en-US" sz="3600" spc="-1" strike="noStrike">
              <a:solidFill>
                <a:srgbClr val="ff0000"/>
              </a:solidFill>
              <a:latin typeface="Arial"/>
            </a:endParaRPr>
          </a:p>
        </p:txBody>
      </p:sp>
      <p:graphicFrame>
        <p:nvGraphicFramePr>
          <p:cNvPr id="447" name=""/>
          <p:cNvGraphicFramePr/>
          <p:nvPr/>
        </p:nvGraphicFramePr>
        <p:xfrm>
          <a:off x="762120" y="995400"/>
          <a:ext cx="7564320" cy="5253120"/>
        </p:xfrm>
        <a:graphic>
          <a:graphicData uri="http://schemas.openxmlformats.org/presentationml/2006/ole">
            <p:oleObj r:id="rId1" spid="">
              <p:embed/>
              <p:pic>
                <p:nvPicPr>
                  <p:cNvPr id="448" name="" descr=""/>
                  <p:cNvPicPr/>
                  <p:nvPr/>
                </p:nvPicPr>
                <p:blipFill>
                  <a:blip r:embed="rId2"/>
                  <a:stretch/>
                </p:blipFill>
                <p:spPr>
                  <a:xfrm>
                    <a:off x="762120" y="995400"/>
                    <a:ext cx="7564320" cy="525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CP3D Driver – Task Flow Example</a:t>
            </a:r>
            <a:endParaRPr b="1" lang="en-US" sz="3600" spc="-1" strike="noStrike">
              <a:solidFill>
                <a:srgbClr val="ff0000"/>
              </a:solidFill>
              <a:latin typeface="Arial"/>
            </a:endParaRPr>
          </a:p>
        </p:txBody>
      </p:sp>
      <p:graphicFrame>
        <p:nvGraphicFramePr>
          <p:cNvPr id="450" name=""/>
          <p:cNvGraphicFramePr/>
          <p:nvPr/>
        </p:nvGraphicFramePr>
        <p:xfrm>
          <a:off x="550800" y="1566720"/>
          <a:ext cx="8032680" cy="3927600"/>
        </p:xfrm>
        <a:graphic>
          <a:graphicData uri="http://schemas.openxmlformats.org/presentationml/2006/ole">
            <p:oleObj r:id="rId1" spid="">
              <p:embed/>
              <p:pic>
                <p:nvPicPr>
                  <p:cNvPr id="451" name="" descr=""/>
                  <p:cNvPicPr/>
                  <p:nvPr/>
                </p:nvPicPr>
                <p:blipFill>
                  <a:blip r:embed="rId2"/>
                  <a:stretch/>
                </p:blipFill>
                <p:spPr>
                  <a:xfrm>
                    <a:off x="550800" y="1566720"/>
                    <a:ext cx="8032680" cy="392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pplication Example flow</a:t>
            </a:r>
            <a:endParaRPr b="1" lang="en-US" sz="3600" spc="-1" strike="noStrike">
              <a:solidFill>
                <a:srgbClr val="ff0000"/>
              </a:solidFill>
              <a:latin typeface="Arial"/>
            </a:endParaRPr>
          </a:p>
        </p:txBody>
      </p:sp>
      <p:graphicFrame>
        <p:nvGraphicFramePr>
          <p:cNvPr id="453" name=""/>
          <p:cNvGraphicFramePr/>
          <p:nvPr/>
        </p:nvGraphicFramePr>
        <p:xfrm>
          <a:off x="1770120" y="1185840"/>
          <a:ext cx="5594400" cy="5062680"/>
        </p:xfrm>
        <a:graphic>
          <a:graphicData uri="http://schemas.openxmlformats.org/presentationml/2006/ole">
            <p:oleObj r:id="rId1" spid="">
              <p:embed/>
              <p:pic>
                <p:nvPicPr>
                  <p:cNvPr id="454" name="" descr=""/>
                  <p:cNvPicPr/>
                  <p:nvPr/>
                </p:nvPicPr>
                <p:blipFill>
                  <a:blip r:embed="rId2"/>
                  <a:stretch/>
                </p:blipFill>
                <p:spPr>
                  <a:xfrm>
                    <a:off x="1770120" y="1185840"/>
                    <a:ext cx="5594400" cy="506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0756906</cp:lastModifiedBy>
  <dcterms:modified xsi:type="dcterms:W3CDTF">2009-10-26T18:56:51Z</dcterms:modified>
  <cp:revision>20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